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2.wmf" ContentType="image/x-wmf"/>
  <Override PartName="/ppt/media/image20.jpeg" ContentType="image/jpeg"/>
  <Override PartName="/ppt/media/image17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10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9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41.jpeg" ContentType="image/jpeg"/>
  <Override PartName="/ppt/media/image45.jpeg" ContentType="image/jpeg"/>
  <Override PartName="/ppt/media/image37.png" ContentType="image/png"/>
  <Override PartName="/ppt/media/image8.jpeg" ContentType="image/jpeg"/>
  <Override PartName="/ppt/media/image34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4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75463" cy="10001250"/>
</p:presentation>
</file>

<file path=ppt/commentAuthors.xml><?xml version="1.0" encoding="utf-8"?>
<p:cmAuthorLst xmlns:p="http://schemas.openxmlformats.org/presentationml/2006/main">
  <p:cmAuthor id="0" name="Usuario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<Relationship Id="rId7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8-02T07:56:36.953000000" idx="1">
    <p:pos x="5592" y="3899"/>
    <p:text>LA BIOQUIMICA ES UNA CIENCIA DINÁMICA PORQUE INVESTIGA LAS TRANSFORMACIONES QUÍMICAS QUE SE PRODUCEN EN LOS SITEMAS BIOLOGICOS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500-EEE3-4F98-8EB5-0BCB87A4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6CD-D4D2-486B-9120-1C6CE62B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737-5594-4D9B-8EA4-E2C52D27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D21-226C-4DF5-A318-B33DB279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E76-AA75-4190-94D2-C939022C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AED-5BA6-456C-BA23-62F81D95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857-4756-44A8-97B4-C66C85D7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279-7EF4-46DB-8832-77F69D2D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729-4FB8-412D-B3E2-FDB6EBFE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E70-9697-4317-903B-CC58A6D7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3BA-7A79-4F32-B4BF-6B8A473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CD4-759D-4767-8681-6DE1832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6DE4-A854-4F1D-AF24-A245D7EB3067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static.consumer.es/verduras/imgs/fotografias/1conozcamos/02.jpg&amp;imgrefurl=http://verduras.consumer.es/documentos/conozcamos/imprimir.php&amp;usg=__TMv8d34NeiVGDqK-i1jYFvbzcrQ=&amp;h=205&amp;w=161&amp;sz=20&amp;hl=es&amp;start=79&amp;tbnid=NKAWpMOAKhfKkM:&amp;tbnh=105&amp;tbnw=82&amp;prev=/images%3Fq%3Dclasificacion%2Bde%2Bvitaminas%2Bhidrosolubles%26gbv%3D2%26ndsp%3D18%26hl%3Des%26sa%3DN%26start%3D72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.ar/imgres?imgurl=http://www.alimentacion-sana.com.ar/Portal%2520nuevo/imagenesplanillas/originales2/sesamo.jpg&amp;imgrefurl=http://neoalimentossalud.zoomblog.com/cat/10674&amp;usg=__mydMJC4nBhbw6-QS-wiGdXjU7vo=&amp;h=264&amp;w=280&amp;sz=54&amp;hl=es&amp;start=73&amp;tbnid=U-crGy6oi5nczM:&amp;tbnh=107&amp;tbnw=114&amp;prev=/images%3Fq%3Dclasificacion%2Bde%2Bvitaminas%2Bhidrosolubles%26gbv%3D2%26ndsp%3D18%26hl%3Des%26sa%3DN%26start%3D72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.ar/imgres?imgurl=http://usuarios3.arsystel.com/alesales/making-plastic-using-vitamin-c_9.jpg&amp;imgrefurl=http://diabetesstop.wordpress.com/page/5/&amp;usg=__ybIEIEPD67E5FkpLu_SxXPjpKws=&amp;h=314&amp;w=300&amp;sz=10&amp;hl=es&amp;start=80&amp;tbnid=faG42C0LHvf3hM:&amp;tbnh=117&amp;tbnw=112&amp;prev=/images%3Fq%3Dclasificacion%2Bde%2Bvitaminas%2Bhidrosolubles%26gbv%3D2%26ndsp%3D18%26hl%3Des%26sa%3DN%26start%3D72" TargetMode="External"/><Relationship Id="rId6" Type="http://schemas.openxmlformats.org/officeDocument/2006/relationships/image" Target="../media/image43.jpeg"/><Relationship Id="rId7" Type="http://schemas.openxmlformats.org/officeDocument/2006/relationships/image" Target="../media/image24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404640"/>
            <a:ext cx="9144000" cy="8892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9360">
            <a:solidFill>
              <a:srgbClr val="00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3149"/>
              </a:spcBef>
              <a:spcAft>
                <a:spcPts val="31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Franklin Gothic Book"/>
                <a:ea typeface="Arial"/>
              </a:rPr>
              <a:t>QUIMICA BI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604000" cy="5040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léculas Biológicas - Estructura 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acciones entre molé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íntesis y degradación celular de las molé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ervación y utilización de la energía en las cél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canismos regul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formacion génica y su papel en la síntesis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UT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ACRONUTRIENT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Grasas, Carbohidratos y Proteína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ICRONUTRIEN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taminas y los  Minerale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VITAMINA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528560"/>
            <a:ext cx="8229600" cy="5329080"/>
          </a:xfrm>
          <a:prstGeom prst="rect">
            <a:avLst/>
          </a:prstGeom>
          <a:solidFill>
            <a:srgbClr val="faef16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estro organismo no 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sintetiz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ó su síntesis es de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ecesarias para el crecimiento, desarrollo, mantenimiento de la energía y bienestar gene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 activamente del metabolismo de nutrientes, síntesis de hormonas, neurotransmisores, y como cofactores enzi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s deficiencias condicion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aparición de enferm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0" y="1341360"/>
            <a:ext cx="8713800" cy="136836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oper Black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Son micro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utrientes orgánicos esenciales para el organismo presentes en pequeñas cantidades en los 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8748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VITAMIN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on aportada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t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or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ROVITAMIN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cursores sin actividad vitamínica, su metabolismo da origen a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vitamin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NTIVITAMINAS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tienen actividad vitamínica, compiten con ellas en los sistemas enzimá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9360">
            <a:solidFill>
              <a:srgbClr val="00d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ala ali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lto consumo alimentos que han perdido las vitaminas durante su manipulación ó con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bsorción intestinal de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umento de los requirimientos vitamí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xceso desequilibrados de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CESIDADES VITAM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dad, sexo, peso, 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do fisiológico (embarazo y lacta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sonas hospitalizadas por larg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tamientos prolongados con antibió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pués de un traumatismo, quemadura, transpl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87280" y="5445000"/>
            <a:ext cx="853272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a alimentación variada permite que estén disponibles en cantidad suficiente sin necesidad de tomar complejos vitamínicos ext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verduras"/>
          <p:cNvPicPr/>
          <p:nvPr/>
        </p:nvPicPr>
        <p:blipFill>
          <a:blip r:embed="rId1"/>
          <a:stretch/>
        </p:blipFill>
        <p:spPr>
          <a:xfrm>
            <a:off x="3924360" y="2997360"/>
            <a:ext cx="1238040" cy="93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carne vaca"/>
          <p:cNvPicPr/>
          <p:nvPr/>
        </p:nvPicPr>
        <p:blipFill>
          <a:blip r:embed="rId2"/>
          <a:stretch/>
        </p:blipFill>
        <p:spPr>
          <a:xfrm>
            <a:off x="6012000" y="3357720"/>
            <a:ext cx="118080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pescado"/>
          <p:cNvPicPr/>
          <p:nvPr/>
        </p:nvPicPr>
        <p:blipFill>
          <a:blip r:embed="rId3"/>
          <a:stretch/>
        </p:blipFill>
        <p:spPr>
          <a:xfrm>
            <a:off x="2340000" y="3679920"/>
            <a:ext cx="923760" cy="116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images"/>
          <p:cNvPicPr/>
          <p:nvPr/>
        </p:nvPicPr>
        <p:blipFill>
          <a:blip r:embed="rId4"/>
          <a:stretch/>
        </p:blipFill>
        <p:spPr>
          <a:xfrm>
            <a:off x="971640" y="195120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aceite"/>
          <p:cNvPicPr/>
          <p:nvPr/>
        </p:nvPicPr>
        <p:blipFill>
          <a:blip r:embed="rId5"/>
          <a:stretch/>
        </p:blipFill>
        <p:spPr>
          <a:xfrm>
            <a:off x="5219640" y="1773360"/>
            <a:ext cx="905040" cy="1104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nueces"/>
          <p:cNvPicPr/>
          <p:nvPr/>
        </p:nvPicPr>
        <p:blipFill>
          <a:blip r:embed="rId6"/>
          <a:stretch/>
        </p:blipFill>
        <p:spPr>
          <a:xfrm>
            <a:off x="5292720" y="4149720"/>
            <a:ext cx="9716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 LAS VITAMINAS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n procesos CEL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úan como coenzimas o grupo prostético de las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TIOXI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án implicadas en los procesos de CRECIMIENTO y DIFERENCIACION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9" name="_s169989"/>
          <p:cNvCxnSpPr>
            <a:stCxn id="120" idx="0"/>
          </p:cNvCxnSpPr>
          <p:nvPr/>
        </p:nvCxnSpPr>
        <p:spPr>
          <a:xfrm flipV="1" rot="16200000">
            <a:off x="6957360" y="5033160"/>
            <a:ext cx="227880" cy="43560"/>
          </a:xfrm>
          <a:prstGeom prst="bentConnector3">
            <a:avLst>
              <a:gd name="adj1" fmla="val 50316"/>
            </a:avLst>
          </a:prstGeom>
          <a:ln w="28440">
            <a:solidFill>
              <a:srgbClr val="006699"/>
            </a:solidFill>
            <a:miter/>
          </a:ln>
        </p:spPr>
      </p:cxnSp>
      <p:cxnSp>
        <p:nvCxnSpPr>
          <p:cNvPr id="121" name="_s169991"/>
          <p:cNvCxnSpPr>
            <a:endCxn id="122" idx="2"/>
          </p:cNvCxnSpPr>
          <p:nvPr/>
        </p:nvCxnSpPr>
        <p:spPr>
          <a:xfrm flipV="1" rot="16200000">
            <a:off x="7074000" y="3343320"/>
            <a:ext cx="127800" cy="20880"/>
          </a:xfrm>
          <a:prstGeom prst="bentConnector3">
            <a:avLst>
              <a:gd name="adj1" fmla="val 50000"/>
            </a:avLst>
          </a:prstGeom>
          <a:ln w="28440">
            <a:solidFill>
              <a:srgbClr val="006699"/>
            </a:solidFill>
            <a:miter/>
          </a:ln>
        </p:spPr>
      </p:cxnSp>
      <p:cxnSp>
        <p:nvCxnSpPr>
          <p:cNvPr id="123" name="_s169993"/>
          <p:cNvCxnSpPr/>
          <p:nvPr/>
        </p:nvCxnSpPr>
        <p:spPr>
          <a:xfrm flipV="1" rot="16200000">
            <a:off x="4431240" y="-1104840"/>
            <a:ext cx="714960" cy="4609440"/>
          </a:xfrm>
          <a:prstGeom prst="bentConnector3">
            <a:avLst>
              <a:gd name="adj1" fmla="val 49974"/>
            </a:avLst>
          </a:prstGeom>
          <a:ln w="28440">
            <a:solidFill>
              <a:srgbClr val="006699"/>
            </a:solidFill>
            <a:miter/>
          </a:ln>
        </p:spPr>
      </p:cxnSp>
      <p:cxnSp>
        <p:nvCxnSpPr>
          <p:cNvPr id="124" name="_s169994"/>
          <p:cNvCxnSpPr/>
          <p:nvPr/>
        </p:nvCxnSpPr>
        <p:spPr>
          <a:xfrm flipH="1" flipV="1" rot="5400000">
            <a:off x="3636720" y="-27720"/>
            <a:ext cx="143640" cy="2448720"/>
          </a:xfrm>
          <a:prstGeom prst="bentConnector3">
            <a:avLst>
              <a:gd name="adj1" fmla="val 50000"/>
            </a:avLst>
          </a:prstGeom>
          <a:ln w="28440">
            <a:solidFill>
              <a:srgbClr val="006699"/>
            </a:solidFill>
            <a:miter/>
          </a:ln>
        </p:spPr>
      </p:cxnSp>
      <p:sp>
        <p:nvSpPr>
          <p:cNvPr id="125" name="_s169995"/>
          <p:cNvSpPr/>
          <p:nvPr/>
        </p:nvSpPr>
        <p:spPr>
          <a:xfrm>
            <a:off x="1403280" y="0"/>
            <a:ext cx="6553440" cy="110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 Narrow"/>
              </a:rPr>
              <a:t>CLASIFICACION DE LAS VITAMI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 Narrow"/>
              </a:rPr>
              <a:t>SEGÚN SU SOLUBILIDAD</a:t>
            </a:r>
            <a:r>
              <a:rPr b="1" lang="es-AR" sz="3200" spc="-1" strike="noStrike">
                <a:solidFill>
                  <a:srgbClr val="0066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_s169996"/>
          <p:cNvSpPr/>
          <p:nvPr/>
        </p:nvSpPr>
        <p:spPr>
          <a:xfrm>
            <a:off x="324000" y="1268280"/>
            <a:ext cx="4248000" cy="1933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HIDR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No se acumulan en 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disuelven en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eliminan 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Es preciso aportarlas diari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_s169997"/>
          <p:cNvSpPr/>
          <p:nvPr/>
        </p:nvSpPr>
        <p:spPr>
          <a:xfrm>
            <a:off x="5111640" y="1268280"/>
            <a:ext cx="4032360" cy="21495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1900"/>
                </a:solidFill>
                <a:latin typeface="Arial Narrow"/>
              </a:rPr>
              <a:t>LIP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acumulan en 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No se disuelven en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1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Se almacenan en hígado y teji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  </a:t>
            </a:r>
            <a:r>
              <a:rPr b="0" lang="es-ES" sz="2400" spc="-1" strike="noStrike">
                <a:solidFill>
                  <a:srgbClr val="4d1900"/>
                </a:solidFill>
                <a:latin typeface="Arial Narrow"/>
              </a:rPr>
              <a:t>gr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_s169998"/>
          <p:cNvSpPr/>
          <p:nvPr/>
        </p:nvSpPr>
        <p:spPr>
          <a:xfrm>
            <a:off x="108000" y="3429000"/>
            <a:ext cx="511344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VIT C – COMPLEJO 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B1 – B2 – B3 – B6 – </a:t>
            </a:r>
            <a:r>
              <a:rPr b="1" lang="es-ES" sz="2400" spc="-1" strike="noStrike">
                <a:solidFill>
                  <a:srgbClr val="ea7a26"/>
                </a:solidFill>
                <a:latin typeface="Arial Narrow"/>
              </a:rPr>
              <a:t>B12 –</a:t>
            </a: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 BIO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 Narrow"/>
              </a:rPr>
              <a:t>AC. PANTOTENICO - AC. FOL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_s169999"/>
          <p:cNvSpPr/>
          <p:nvPr/>
        </p:nvSpPr>
        <p:spPr>
          <a:xfrm>
            <a:off x="5724360" y="3789360"/>
            <a:ext cx="3114720" cy="56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Arial Narrow"/>
              </a:rPr>
              <a:t>A  D  E 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_s170001"/>
          <p:cNvSpPr/>
          <p:nvPr/>
        </p:nvSpPr>
        <p:spPr>
          <a:xfrm>
            <a:off x="5040360" y="4941720"/>
            <a:ext cx="4103640" cy="1719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Aceites , lacteos y deriv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y h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324000" y="5141880"/>
            <a:ext cx="4321080" cy="131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nes, vísceras, huevo, leche, legumbres, cereales, levaduras, Frutos frescos y secos, Cítricos , vegetales de hojas ver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3"/>
          <p:cNvSpPr/>
          <p:nvPr/>
        </p:nvSpPr>
        <p:spPr>
          <a:xfrm>
            <a:off x="6767640" y="0"/>
            <a:ext cx="237636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, D, E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4211640" y="5157720"/>
            <a:ext cx="2519280" cy="1368360"/>
          </a:xfrm>
          <a:prstGeom prst="ellipse">
            <a:avLst/>
          </a:prstGeom>
          <a:solidFill>
            <a:srgbClr val="ea7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sistema%20digestivo"/>
          <p:cNvPicPr/>
          <p:nvPr/>
        </p:nvPicPr>
        <p:blipFill>
          <a:blip r:embed="rId1"/>
          <a:srcRect l="32002" t="7834" r="29606" b="3451"/>
          <a:stretch/>
        </p:blipFill>
        <p:spPr>
          <a:xfrm>
            <a:off x="395280" y="0"/>
            <a:ext cx="3778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5940360" y="242100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Quilomic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407280" y="5440320"/>
            <a:ext cx="273672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e emulsionan con lipidos  y sales b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7740720" y="4653000"/>
            <a:ext cx="0" cy="720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468360" y="189000"/>
            <a:ext cx="790560" cy="57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6659640" y="3421080"/>
            <a:ext cx="2303280" cy="116928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0"/>
          <p:cNvSpPr/>
          <p:nvPr/>
        </p:nvSpPr>
        <p:spPr>
          <a:xfrm flipV="1">
            <a:off x="7667640" y="2997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1"/>
          <p:cNvSpPr/>
          <p:nvPr/>
        </p:nvSpPr>
        <p:spPr>
          <a:xfrm>
            <a:off x="4284720" y="4076640"/>
            <a:ext cx="1441440" cy="115272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 y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5435640" y="1341360"/>
            <a:ext cx="3384360" cy="5814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3"/>
          <p:cNvSpPr/>
          <p:nvPr/>
        </p:nvSpPr>
        <p:spPr>
          <a:xfrm flipV="1">
            <a:off x="7596360" y="198864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4681800" cy="9367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aminas liposolu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073 0.00069 0.06129 0.00092 0.09201 0.00208 C 0.09948 0.00231 0.10278 0.00254 0.10799 0.00832 C 0.11389 0.01479 0.11701 0.02427 0.12222 0.03167 C 0.12465 0.04416 0.12604 0.05711 0.12847 0.06959 C 0.12951 0.10959 0.12726 0.12554 0.1349 0.1563 C 0.13542 0.16971 0.13559 0.18312 0.13646 0.19653 C 0.1375 0.21156 0.14254 0.22659 0.14601 0.24092 C 0.14792 0.24901 0.15573 0.25711 0.16024 0.26196 C 0.16875 0.27098 0.15816 0.26127 0.16667 0.2726 C 0.16806 0.27445 0.16997 0.27514 0.17136 0.27676 C 0.17986 0.28578 0.16927 0.27607 0.17778 0.28739 C 0.18299 0.29433 0.18906 0.3008 0.19514 0.30635 C 0.20417 0.32393 0.19236 0.30265 0.20313 0.31699 C 0.20451 0.31884 0.20504 0.32138 0.20625 0.32323 C 0.20868 0.32693 0.21111 0.33109 0.21424 0.33387 C 0.2158 0.33526 0.21771 0.33641 0.2191 0.33803 C 0.23629 0.35838 0.22188 0.34474 0.23333 0.35514 C 0.23733 0.36323 0.2382 0.36855 0.23958 0.37826 C 0.23906 0.38682 0.23924 0.39537 0.23802 0.4037 C 0.23767 0.40647 0.23333 0.41225 0.23177 0.41433 C 0.22101 0.42867 0.21129 0.43676 0.19514 0.43745 C 0.15972 0.43884 0.12431 0.43884 0.08889 0.43953 C 0.08733 0.44092 0.08524 0.44185 0.08403 0.44393 C 0.08229 0.4467 0.08212 0.45641 0.0809 0.45872 C 0.07882 0.46289 0.07292 0.46913 0.07292 0.46913 C 0.06945 0.48323 0.07205 0.46797 0.07292 0.48185 C 0.07396 0.49872 0.07326 0.51583 0.07465 0.53271 C 0.07517 0.53826 0.07986 0.54034 0.08247 0.54312 C 0.09254 0.55398 0.10504 0.5563 0.11736 0.56231 C 0.13542 0.56161 0.15347 0.56208 0.17136 0.56 C 0.18507 0.55838 0.1632 0.55075 0.17934 0.55791 C 0.18142 0.57757 0.18316 0.59144 0.19201 0.6067 C 0.19323 0.60878 0.19375 0.61133 0.19514 0.61294 C 0.19983 0.61803 0.20399 0.61734 0.20955 0.61919 C 0.21684 0.62173 0.22309 0.62682 0.23021 0.62982 C 0.23056 0.63028 0.23837 0.64023 0.23802 0.64254 C 0.23767 0.64554 0.2349 0.6467 0.23333 0.64878 C 0.22483 0.64809 0.21632 0.64809 0.20799 0.6467 C 0.19254 0.64393 0.20434 0.64138 0.19045 0.64046 C 0.17136 0.6393 0.15243 0.63907 0.13333 0.63838 C 0.1283 0.63144 0.12118 0.63052 0.1158 0.62358 C 0.11267 0.62427 0.1092 0.62381 0.10625 0.62566 C 0.10191 0.62843 0.10399 0.63422 0.10156 0.63838 C 0.1 0.64092 0.09201 0.64578 0.09045 0.6467 C 0.08681 0.65179 0.08629 0.65664 0.08247 0.6615 C 0.07934 0.67815 0.07708 0.67537 0.06667 0.68277 C 0.0625 0.68208 0.05747 0.68393 0.05399 0.68069 C 0.05122 0.67815 0.05087 0.67237 0.0507 0.66797 C 0.05 0.64578 0.04948 0.61965 0.06181 0.60231 C 0.06372 0.59514 0.06667 0.58867 0.06823 0.58127 C 0.07222 0.56185 0.06806 0.56878 0.07465 0.56 C 0.07761 0.54404 0.07379 0.55861 0.0809 0.5452 C 0.08281 0.54173 0.08629 0.52948 0.08733 0.52624 C 0.09201 0.49433 0.09323 0.46196 0.07292 0.44161 C 0.06545 0.43398 0.05903 0.4252 0.05243 0.41641 C 0.0434 0.40439 0.05191 0.41364 0.04288 0.40786 C 0.04115 0.4067 0.03802 0.4037 0.03802 0.4037 E">
                                      <p:cBhvr>
                                        <p:cTn id="296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9434 L -0.48038 -0.10474 E">
                                      <p:cBhvr>
                                        <p:cTn id="35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aminas E (TOCOFERO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195640" y="1557360"/>
            <a:ext cx="4033800" cy="1800360"/>
          </a:xfrm>
          <a:prstGeom prst="ellipse">
            <a:avLst/>
          </a:prstGeom>
          <a:solidFill>
            <a:srgbClr val="ea7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4067280" y="3500280"/>
            <a:ext cx="0" cy="8654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8"/>
          <p:cNvGrpSpPr/>
          <p:nvPr/>
        </p:nvGrpSpPr>
        <p:grpSpPr>
          <a:xfrm>
            <a:off x="3132000" y="4724280"/>
            <a:ext cx="2449440" cy="1511280"/>
            <a:chOff x="3132000" y="4724280"/>
            <a:chExt cx="2449440" cy="1511280"/>
          </a:xfrm>
        </p:grpSpPr>
        <p:grpSp>
          <p:nvGrpSpPr>
            <p:cNvPr id="147" name="Group 21"/>
            <p:cNvGrpSpPr/>
            <p:nvPr/>
          </p:nvGrpSpPr>
          <p:grpSpPr>
            <a:xfrm>
              <a:off x="3132000" y="4724280"/>
              <a:ext cx="1727280" cy="1511280"/>
              <a:chOff x="3132000" y="4724280"/>
              <a:chExt cx="1727280" cy="1511280"/>
            </a:xfrm>
          </p:grpSpPr>
          <p:grpSp>
            <p:nvGrpSpPr>
              <p:cNvPr id="148" name="Group 22"/>
              <p:cNvGrpSpPr/>
              <p:nvPr/>
            </p:nvGrpSpPr>
            <p:grpSpPr>
              <a:xfrm>
                <a:off x="3132000" y="4724280"/>
                <a:ext cx="1727280" cy="1511280"/>
                <a:chOff x="3132000" y="4724280"/>
                <a:chExt cx="1727280" cy="1511280"/>
              </a:xfrm>
            </p:grpSpPr>
            <p:grpSp>
              <p:nvGrpSpPr>
                <p:cNvPr id="149" name="Group 23"/>
                <p:cNvGrpSpPr/>
                <p:nvPr/>
              </p:nvGrpSpPr>
              <p:grpSpPr>
                <a:xfrm>
                  <a:off x="3132000" y="4724280"/>
                  <a:ext cx="1727280" cy="1511280"/>
                  <a:chOff x="3132000" y="4724280"/>
                  <a:chExt cx="1727280" cy="1511280"/>
                </a:xfrm>
              </p:grpSpPr>
              <p:sp>
                <p:nvSpPr>
                  <p:cNvPr id="150" name="Oval 24"/>
                  <p:cNvSpPr/>
                  <p:nvPr/>
                </p:nvSpPr>
                <p:spPr>
                  <a:xfrm>
                    <a:off x="3348000" y="486864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Oval 25"/>
                  <p:cNvSpPr/>
                  <p:nvPr/>
                </p:nvSpPr>
                <p:spPr>
                  <a:xfrm>
                    <a:off x="3779640" y="5300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Oval 26"/>
                  <p:cNvSpPr/>
                  <p:nvPr/>
                </p:nvSpPr>
                <p:spPr>
                  <a:xfrm>
                    <a:off x="3419280" y="5516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Oval 27"/>
                  <p:cNvSpPr/>
                  <p:nvPr/>
                </p:nvSpPr>
                <p:spPr>
                  <a:xfrm>
                    <a:off x="3132000" y="522900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Oval 28"/>
                  <p:cNvSpPr/>
                  <p:nvPr/>
                </p:nvSpPr>
                <p:spPr>
                  <a:xfrm>
                    <a:off x="4067280" y="5084640"/>
                    <a:ext cx="50292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Oval 29"/>
                  <p:cNvSpPr/>
                  <p:nvPr/>
                </p:nvSpPr>
                <p:spPr>
                  <a:xfrm>
                    <a:off x="3779640" y="479556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Oval 30"/>
                  <p:cNvSpPr/>
                  <p:nvPr/>
                </p:nvSpPr>
                <p:spPr>
                  <a:xfrm>
                    <a:off x="4211640" y="5732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"/>
                  <p:cNvSpPr/>
                  <p:nvPr/>
                </p:nvSpPr>
                <p:spPr>
                  <a:xfrm>
                    <a:off x="4140000" y="4724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Oval 32"/>
                  <p:cNvSpPr/>
                  <p:nvPr/>
                </p:nvSpPr>
                <p:spPr>
                  <a:xfrm>
                    <a:off x="3779640" y="573228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3"/>
                  <p:cNvSpPr/>
                  <p:nvPr/>
                </p:nvSpPr>
                <p:spPr>
                  <a:xfrm>
                    <a:off x="3132000" y="5587920"/>
                    <a:ext cx="503280" cy="502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Oval 34"/>
                  <p:cNvSpPr/>
                  <p:nvPr/>
                </p:nvSpPr>
                <p:spPr>
                  <a:xfrm>
                    <a:off x="4356000" y="5155920"/>
                    <a:ext cx="503280" cy="503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Oval 35"/>
                <p:cNvSpPr/>
                <p:nvPr/>
              </p:nvSpPr>
              <p:spPr>
                <a:xfrm>
                  <a:off x="3564000" y="5084640"/>
                  <a:ext cx="503280" cy="503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Oval 36"/>
              <p:cNvSpPr/>
              <p:nvPr/>
            </p:nvSpPr>
            <p:spPr>
              <a:xfrm>
                <a:off x="4213080" y="5443560"/>
                <a:ext cx="503280" cy="502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37"/>
            <p:cNvSpPr/>
            <p:nvPr/>
          </p:nvSpPr>
          <p:spPr>
            <a:xfrm>
              <a:off x="4356000" y="5398920"/>
              <a:ext cx="1225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EJIDO ADIPO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Oval 11"/>
          <p:cNvSpPr/>
          <p:nvPr/>
        </p:nvSpPr>
        <p:spPr>
          <a:xfrm>
            <a:off x="4500720" y="3716280"/>
            <a:ext cx="576000" cy="50328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45 0.0259 0.0309 0.05203 0.02379 0.08047 C 0.01667 0.10891 -0.03177 0.1563 -0.04288 0.17133 E">
                                      <p:cBhvr>
                                        <p:cTn id="39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VITAMINA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3203640" y="3429000"/>
            <a:ext cx="5940360" cy="19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recimiento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e células epitel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3708360" y="1413000"/>
            <a:ext cx="4103640" cy="18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sión y ada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uz-Osc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4211640" y="5345280"/>
            <a:ext cx="3168720" cy="151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tioxid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1" descr="ojo"/>
          <p:cNvPicPr/>
          <p:nvPr/>
        </p:nvPicPr>
        <p:blipFill>
          <a:blip r:embed="rId1"/>
          <a:stretch/>
        </p:blipFill>
        <p:spPr>
          <a:xfrm>
            <a:off x="468360" y="1773360"/>
            <a:ext cx="2556000" cy="192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2" descr="ANd9GcSpLzJE3DnrVdP5LUD75MdIyCCt0Okpc3UB8TgzRzUzJbUc7cQacg"/>
          <p:cNvPicPr/>
          <p:nvPr/>
        </p:nvPicPr>
        <p:blipFill>
          <a:blip r:embed="rId2"/>
          <a:stretch/>
        </p:blipFill>
        <p:spPr>
          <a:xfrm>
            <a:off x="539640" y="4365720"/>
            <a:ext cx="23529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44280"/>
            <a:ext cx="8497800" cy="115272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MPUESTOS CONSTITUYENTES DE LA MATERIA VI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54560" y="1341000"/>
            <a:ext cx="568944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OLIDO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ONES EN SOLU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IDRATOS DE CARB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IP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6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 rot="8202600">
            <a:off x="178560" y="2954160"/>
            <a:ext cx="1737000" cy="147168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79280" y="2205000"/>
            <a:ext cx="2881440" cy="52056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INORGA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95280" y="5084640"/>
            <a:ext cx="2556000" cy="52056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ORGA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258920" y="3141720"/>
            <a:ext cx="2016000" cy="1572120"/>
          </a:xfrm>
          <a:prstGeom prst="rect">
            <a:avLst/>
          </a:prstGeom>
          <a:solidFill>
            <a:srgbClr val="dc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VITA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HORM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I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3059280" y="1413000"/>
            <a:ext cx="576000" cy="2233440"/>
          </a:xfrm>
          <a:custGeom>
            <a:avLst/>
            <a:gdLst>
              <a:gd name="textAreaLeft" fmla="*/ 367920 w 576000"/>
              <a:gd name="textAreaRight" fmla="*/ 576000 w 57600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203640" y="4221000"/>
            <a:ext cx="360360" cy="2449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rcRect l="5581" t="346" r="-440" b="81111"/>
          <a:stretch/>
        </p:blipFill>
        <p:spPr>
          <a:xfrm>
            <a:off x="179280" y="2060640"/>
            <a:ext cx="424836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6" descr=""/>
          <p:cNvPicPr/>
          <p:nvPr/>
        </p:nvPicPr>
        <p:blipFill>
          <a:blip r:embed="rId2">
            <a:lum bright="18000"/>
          </a:blip>
          <a:srcRect l="5581" t="17900" r="-440" b="58670"/>
          <a:stretch/>
        </p:blipFill>
        <p:spPr>
          <a:xfrm>
            <a:off x="4859280" y="404640"/>
            <a:ext cx="4103640" cy="17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7" descr=""/>
          <p:cNvPicPr/>
          <p:nvPr/>
        </p:nvPicPr>
        <p:blipFill>
          <a:blip r:embed="rId3">
            <a:lum bright="18000"/>
          </a:blip>
          <a:srcRect l="5581" t="40710" r="-440" b="38883"/>
          <a:stretch/>
        </p:blipFill>
        <p:spPr>
          <a:xfrm>
            <a:off x="4572000" y="3860640"/>
            <a:ext cx="4248000" cy="17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Oval 8"/>
          <p:cNvSpPr/>
          <p:nvPr/>
        </p:nvSpPr>
        <p:spPr>
          <a:xfrm>
            <a:off x="5364000" y="5805360"/>
            <a:ext cx="648000" cy="648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1403280" y="3716280"/>
            <a:ext cx="1081080" cy="6494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79280" y="5445000"/>
            <a:ext cx="2952720" cy="58140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  <a:ea typeface="Arial"/>
              </a:rPr>
              <a:t>-CAROT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2484360" y="5950080"/>
            <a:ext cx="647640" cy="6476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6588000" y="1989000"/>
            <a:ext cx="1008360" cy="86364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324000" y="333360"/>
            <a:ext cx="4176720" cy="106884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ormas activas de la vitamin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4572000" y="2205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4643280" y="299736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FUENTES DE VITAMIN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VEGETAL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Caroteno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pinaca, Acelg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Zanahorias, Zapallo, Batata, Tomate, Durazno, Damasco, Maíz 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ANIMAL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Esterificada c/ AG de c.l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ígado, Leche, manteca, Huevo, Riñón, Músculo. </a:t>
            </a: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Pec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Hígado de tiburón y bacal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zanahoria"/>
          <p:cNvPicPr/>
          <p:nvPr/>
        </p:nvPicPr>
        <p:blipFill>
          <a:blip r:embed="rId1"/>
          <a:stretch/>
        </p:blipFill>
        <p:spPr>
          <a:xfrm>
            <a:off x="7451640" y="1773360"/>
            <a:ext cx="895320" cy="1180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images"/>
          <p:cNvPicPr/>
          <p:nvPr/>
        </p:nvPicPr>
        <p:blipFill>
          <a:blip r:embed="rId2"/>
          <a:stretch/>
        </p:blipFill>
        <p:spPr>
          <a:xfrm>
            <a:off x="7596360" y="515772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VITAMIN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179280" y="1628640"/>
            <a:ext cx="4969080" cy="2854440"/>
          </a:xfrm>
          <a:prstGeom prst="rect">
            <a:avLst/>
          </a:prstGeom>
          <a:ln w="0">
            <a:noFill/>
          </a:ln>
        </p:spPr>
      </p:pic>
      <p:sp>
        <p:nvSpPr>
          <p:cNvPr id="188" name="Oval 7"/>
          <p:cNvSpPr/>
          <p:nvPr/>
        </p:nvSpPr>
        <p:spPr>
          <a:xfrm>
            <a:off x="826920" y="2060640"/>
            <a:ext cx="1584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154764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"/>
          <p:cNvSpPr/>
          <p:nvPr/>
        </p:nvSpPr>
        <p:spPr>
          <a:xfrm>
            <a:off x="755640" y="3284640"/>
            <a:ext cx="158436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L,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1763640" y="4076640"/>
            <a:ext cx="0" cy="129708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79280" y="5516640"/>
            <a:ext cx="424836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FR+ROL+Prealbú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5435640" y="2276640"/>
            <a:ext cx="3058920" cy="3889080"/>
          </a:xfrm>
          <a:prstGeom prst="ellipse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5435640" y="155736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5508720" y="3860640"/>
            <a:ext cx="2448000" cy="172728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012000" y="2637000"/>
            <a:ext cx="244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CFAR-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CFR-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6"/>
          <p:cNvSpPr/>
          <p:nvPr/>
        </p:nvSpPr>
        <p:spPr>
          <a:xfrm>
            <a:off x="4067280" y="3284640"/>
            <a:ext cx="1944720" cy="237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7"/>
          <p:cNvSpPr/>
          <p:nvPr/>
        </p:nvSpPr>
        <p:spPr>
          <a:xfrm>
            <a:off x="7596360" y="3860640"/>
            <a:ext cx="647640" cy="6588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8" descr=""/>
          <p:cNvPicPr/>
          <p:nvPr/>
        </p:nvPicPr>
        <p:blipFill>
          <a:blip r:embed="rId2"/>
          <a:srcRect l="21523" t="8955" r="26879" b="75693"/>
          <a:stretch/>
        </p:blipFill>
        <p:spPr>
          <a:xfrm>
            <a:off x="5219640" y="4869000"/>
            <a:ext cx="3456000" cy="8636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200" name="Oval 19"/>
          <p:cNvSpPr/>
          <p:nvPr/>
        </p:nvSpPr>
        <p:spPr>
          <a:xfrm>
            <a:off x="5219640" y="5229360"/>
            <a:ext cx="863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ojo"/>
          <p:cNvPicPr/>
          <p:nvPr/>
        </p:nvPicPr>
        <p:blipFill>
          <a:blip r:embed="rId1"/>
          <a:stretch/>
        </p:blipFill>
        <p:spPr>
          <a:xfrm>
            <a:off x="684360" y="620640"/>
            <a:ext cx="2555640" cy="1920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4572000" y="692280"/>
            <a:ext cx="3168720" cy="947160"/>
          </a:xfrm>
          <a:prstGeom prst="rect">
            <a:avLst/>
          </a:prstGeom>
          <a:solidFill>
            <a:srgbClr val="ff9fc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STONCILLOS EN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012000" y="1700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3995640" y="2781360"/>
            <a:ext cx="4105440" cy="223200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RODOP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SINA +  11-CIS-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95280" y="5229360"/>
            <a:ext cx="3240000" cy="1068840"/>
          </a:xfrm>
          <a:prstGeom prst="rect">
            <a:avLst/>
          </a:prstGeom>
          <a:solidFill>
            <a:srgbClr val="f3e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INAL TODO TR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08720" y="5229360"/>
            <a:ext cx="3240000" cy="1068840"/>
          </a:xfrm>
          <a:prstGeom prst="rect">
            <a:avLst/>
          </a:prstGeom>
          <a:solidFill>
            <a:srgbClr val="f3e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11-CIS RE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3642840" y="5618160"/>
            <a:ext cx="1708200" cy="4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80000" y="5734080"/>
            <a:ext cx="1223640" cy="9079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24000" y="2708280"/>
            <a:ext cx="3384360" cy="1152360"/>
          </a:xfrm>
          <a:custGeom>
            <a:avLst/>
            <a:gdLst>
              <a:gd name="textAreaLeft" fmla="*/ 0 w 3384360"/>
              <a:gd name="textAreaRight" fmla="*/ 3384720 w 338436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ISION NOCT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250920" y="3860640"/>
            <a:ext cx="3311280" cy="1152720"/>
          </a:xfrm>
          <a:custGeom>
            <a:avLst/>
            <a:gdLst>
              <a:gd name="textAreaLeft" fmla="*/ 0 w 3311280"/>
              <a:gd name="textAreaRight" fmla="*/ 3311640 w 3311280"/>
              <a:gd name="textAreaTop" fmla="*/ 149400 h 1152720"/>
              <a:gd name="textAreaBottom" fmla="*/ 1003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ISION CO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4"/>
          <p:cNvSpPr/>
          <p:nvPr/>
        </p:nvSpPr>
        <p:spPr>
          <a:xfrm>
            <a:off x="179280" y="549360"/>
            <a:ext cx="3456000" cy="216036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RETINO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T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 flipV="1">
            <a:off x="3635280" y="61920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5435640" y="115920"/>
            <a:ext cx="1800360" cy="1224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3564000" y="1916280"/>
            <a:ext cx="1150920" cy="863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932360" y="1989000"/>
            <a:ext cx="3887640" cy="1068840"/>
          </a:xfrm>
          <a:prstGeom prst="rect">
            <a:avLst/>
          </a:prstGeom>
          <a:solidFill>
            <a:srgbClr val="fcf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INTESIS DE GLICO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6659640" y="314172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211640" y="5229360"/>
            <a:ext cx="4537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ANTENIMIENTO DE LOS EPITE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" y="115560"/>
            <a:ext cx="8964720" cy="7779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CESIDADES DIARIAS DE VITAMIN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360" y="2492280"/>
            <a:ext cx="82296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 Normal: 1000 UI (=1 mg.retinol/d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 en lactancia 1.5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° Año de vida: 4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-10 años: 400-700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0" y="1268280"/>
            <a:ext cx="9144000" cy="1092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000000"/>
                </a:solidFill>
                <a:uFillTx/>
                <a:latin typeface="Arial"/>
              </a:rPr>
              <a:t>Unidades Internacionales (UI)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g retinal todo trans 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g de </a:t>
            </a:r>
            <a:r>
              <a:rPr b="1" lang="es-AR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-carote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16000" y="4795920"/>
            <a:ext cx="338436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0" y="5950080"/>
            <a:ext cx="4321080" cy="5814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635280" y="5084640"/>
            <a:ext cx="1440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4282920" y="6308640"/>
            <a:ext cx="360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4680000" y="5303880"/>
            <a:ext cx="446400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iel, membranas                  de mucosa y pérdida         del cab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 rot="3796800">
            <a:off x="3976200" y="5947920"/>
            <a:ext cx="1295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G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5076720" y="4653000"/>
            <a:ext cx="3889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a7e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eguera noctu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468360" y="260280"/>
            <a:ext cx="830412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VITAMINA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39640" y="1628640"/>
            <a:ext cx="8280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Esencial para el crecimiento y desarrollo normal de los hu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10 a 15 minutos de exposición al sol bastan para sintetizarla a nivel de la 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Participa en la absorción del calcio y fósf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Ayuda al sistema inmu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STRUCTURA QUIMICA DE VITAMINA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vitaminaD"/>
          <p:cNvPicPr/>
          <p:nvPr/>
        </p:nvPicPr>
        <p:blipFill>
          <a:blip r:embed="rId1"/>
          <a:stretch/>
        </p:blipFill>
        <p:spPr>
          <a:xfrm>
            <a:off x="457200" y="2527200"/>
            <a:ext cx="82296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s un derivado del colesterol, no está presente en las plan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ieta: Aceites de hígado de pescado (colecalciferol), Leche y yema de 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íntesis endógena (luz solar sobre la pi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UENTES DE VIT.D y 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pescado"/>
          <p:cNvPicPr/>
          <p:nvPr/>
        </p:nvPicPr>
        <p:blipFill>
          <a:blip r:embed="rId1"/>
          <a:stretch/>
        </p:blipFill>
        <p:spPr>
          <a:xfrm>
            <a:off x="5989680" y="1989000"/>
            <a:ext cx="2746440" cy="3456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3"/>
          <p:cNvSpPr/>
          <p:nvPr/>
        </p:nvSpPr>
        <p:spPr>
          <a:xfrm>
            <a:off x="1187280" y="6021360"/>
            <a:ext cx="6840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hay recomendación de requerimiento diario porque es sintetizada por el orga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4"/>
          <p:cNvSpPr/>
          <p:nvPr/>
        </p:nvSpPr>
        <p:spPr>
          <a:xfrm>
            <a:off x="1979640" y="4365720"/>
            <a:ext cx="3313080" cy="1008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EGE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 flipH="1">
            <a:off x="2484000" y="4435560"/>
            <a:ext cx="1366920" cy="11523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>
            <a:off x="2595960" y="4393440"/>
            <a:ext cx="1215360" cy="13114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964720" cy="8654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ormas activas de la vitamina D y su fu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0" y="2852640"/>
            <a:ext cx="4067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LECALCIFEROL ó Calc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4716360" y="2637000"/>
            <a:ext cx="424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1, 25-dihidroxiCC ó Calcitr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5280" y="1125360"/>
            <a:ext cx="309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692360" y="177336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763640" y="234792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1908000" y="1773360"/>
            <a:ext cx="1440000" cy="7920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3635280" y="3139920"/>
            <a:ext cx="9367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1403280" y="4005360"/>
            <a:ext cx="5832720" cy="165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OMEOSTASIS DEL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0" y="5697360"/>
            <a:ext cx="54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vitaminosis: RAQUIT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OSTEOMAL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3"/>
          <p:cNvGrpSpPr/>
          <p:nvPr/>
        </p:nvGrpSpPr>
        <p:grpSpPr>
          <a:xfrm>
            <a:off x="7451640" y="3716280"/>
            <a:ext cx="1331280" cy="2809440"/>
            <a:chOff x="7451640" y="3716280"/>
            <a:chExt cx="1331280" cy="2809440"/>
          </a:xfrm>
        </p:grpSpPr>
        <p:pic>
          <p:nvPicPr>
            <p:cNvPr id="250" name="Picture 17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>
              <a:off x="7451640" y="3716280"/>
              <a:ext cx="12495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20"/>
            <p:cNvSpPr/>
            <p:nvPr/>
          </p:nvSpPr>
          <p:spPr>
            <a:xfrm>
              <a:off x="7451640" y="4839480"/>
              <a:ext cx="26712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8516520" y="4932000"/>
              <a:ext cx="26640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Oval 8"/>
          <p:cNvSpPr/>
          <p:nvPr/>
        </p:nvSpPr>
        <p:spPr>
          <a:xfrm>
            <a:off x="6804000" y="4941720"/>
            <a:ext cx="1944720" cy="1511640"/>
          </a:xfrm>
          <a:prstGeom prst="ellipse">
            <a:avLst/>
          </a:prstGeom>
          <a:solidFill>
            <a:srgbClr val="bbe0e3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ORM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993080" cy="83664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IO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280360" cy="5950080"/>
          </a:xfrm>
          <a:prstGeom prst="rect">
            <a:avLst/>
          </a:prstGeom>
          <a:solidFill>
            <a:srgbClr val="05e16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PRIM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SECUNDARIOS                       (Ma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LIGOELEMENTOS                          (Mi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CTROL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"/>
          <p:cNvSpPr/>
          <p:nvPr/>
        </p:nvSpPr>
        <p:spPr>
          <a:xfrm>
            <a:off x="5364000" y="907920"/>
            <a:ext cx="201636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O, C, H,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5796000" y="2349360"/>
            <a:ext cx="252108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a,  P, S, M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5292720" y="4005360"/>
            <a:ext cx="331308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Fe, F, Cu, I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Zn, Co, Mo, 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r 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780000" y="5634000"/>
            <a:ext cx="230472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779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CION HORMONAL DE LA Vitamina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5"/>
          <p:cNvSpPr/>
          <p:nvPr/>
        </p:nvSpPr>
        <p:spPr>
          <a:xfrm>
            <a:off x="2411280" y="2852640"/>
            <a:ext cx="3461040" cy="2376720"/>
          </a:xfrm>
          <a:prstGeom prst="pie">
            <a:avLst/>
          </a:pr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"/>
          <p:cNvGrpSpPr/>
          <p:nvPr/>
        </p:nvGrpSpPr>
        <p:grpSpPr>
          <a:xfrm>
            <a:off x="6084720" y="3429000"/>
            <a:ext cx="1755720" cy="2268360"/>
            <a:chOff x="6084720" y="3429000"/>
            <a:chExt cx="1755720" cy="2268360"/>
          </a:xfrm>
        </p:grpSpPr>
        <p:sp>
          <p:nvSpPr>
            <p:cNvPr id="257" name="Freeform 9"/>
            <p:cNvSpPr/>
            <p:nvPr/>
          </p:nvSpPr>
          <p:spPr>
            <a:xfrm>
              <a:off x="6084720" y="3429000"/>
              <a:ext cx="1139760" cy="2268360"/>
            </a:xfrm>
            <a:prstGeom prst="pie">
              <a:avLst/>
            </a:pr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6905520" y="4160520"/>
              <a:ext cx="934920" cy="1006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"/>
            <p:cNvSpPr/>
            <p:nvPr/>
          </p:nvSpPr>
          <p:spPr>
            <a:xfrm>
              <a:off x="7056360" y="4508280"/>
              <a:ext cx="649440" cy="65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468360" y="4581360"/>
            <a:ext cx="1344600" cy="1871640"/>
            <a:chOff x="468360" y="4581360"/>
            <a:chExt cx="1344600" cy="1871640"/>
          </a:xfrm>
        </p:grpSpPr>
        <p:sp>
          <p:nvSpPr>
            <p:cNvPr id="261" name="Freeform 13"/>
            <p:cNvSpPr/>
            <p:nvPr/>
          </p:nvSpPr>
          <p:spPr>
            <a:xfrm>
              <a:off x="468360" y="4581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731880" y="4589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 rot="19789800">
            <a:off x="360" y="386028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6"/>
          <p:cNvSpPr/>
          <p:nvPr/>
        </p:nvSpPr>
        <p:spPr>
          <a:xfrm rot="3768600">
            <a:off x="6622200" y="2968200"/>
            <a:ext cx="1536840" cy="5814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 flipH="1">
            <a:off x="3851280" y="1773360"/>
            <a:ext cx="144144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5"/>
          <p:cNvSpPr/>
          <p:nvPr/>
        </p:nvSpPr>
        <p:spPr>
          <a:xfrm>
            <a:off x="0" y="2421000"/>
            <a:ext cx="2627280" cy="863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angre circu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4"/>
          <p:cNvSpPr/>
          <p:nvPr/>
        </p:nvSpPr>
        <p:spPr>
          <a:xfrm>
            <a:off x="3564000" y="2997360"/>
            <a:ext cx="865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5"/>
          <p:cNvSpPr/>
          <p:nvPr/>
        </p:nvSpPr>
        <p:spPr>
          <a:xfrm>
            <a:off x="2556000" y="414504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5-HO.C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6"/>
          <p:cNvSpPr/>
          <p:nvPr/>
        </p:nvSpPr>
        <p:spPr>
          <a:xfrm>
            <a:off x="5146560" y="4221000"/>
            <a:ext cx="1224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3419640" y="3722760"/>
            <a:ext cx="0" cy="288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>
            <a:off x="6659640" y="4653000"/>
            <a:ext cx="0" cy="360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1"/>
          <p:cNvSpPr/>
          <p:nvPr/>
        </p:nvSpPr>
        <p:spPr>
          <a:xfrm>
            <a:off x="5580000" y="4724280"/>
            <a:ext cx="792360" cy="10065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2"/>
          <p:cNvSpPr/>
          <p:nvPr/>
        </p:nvSpPr>
        <p:spPr>
          <a:xfrm flipH="1">
            <a:off x="1908000" y="5229360"/>
            <a:ext cx="3672000" cy="3585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3"/>
          <p:cNvSpPr/>
          <p:nvPr/>
        </p:nvSpPr>
        <p:spPr>
          <a:xfrm rot="20864400">
            <a:off x="1763640" y="5444640"/>
            <a:ext cx="30974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ptación Ca</a:t>
            </a:r>
            <a:r>
              <a:rPr b="1" lang="es-AR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3851280" y="6165720"/>
            <a:ext cx="1944720" cy="581400"/>
          </a:xfrm>
          <a:prstGeom prst="rect">
            <a:avLst/>
          </a:prstGeom>
          <a:solidFill>
            <a:srgbClr val="f3e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6"/>
          <p:cNvSpPr/>
          <p:nvPr/>
        </p:nvSpPr>
        <p:spPr>
          <a:xfrm flipH="1">
            <a:off x="5435640" y="5373720"/>
            <a:ext cx="792000" cy="7207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7"/>
          <p:cNvSpPr/>
          <p:nvPr/>
        </p:nvSpPr>
        <p:spPr>
          <a:xfrm>
            <a:off x="6084720" y="5877000"/>
            <a:ext cx="3059280" cy="5205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sorción O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6"/>
          <p:cNvSpPr/>
          <p:nvPr/>
        </p:nvSpPr>
        <p:spPr>
          <a:xfrm flipV="1">
            <a:off x="258840" y="1355760"/>
            <a:ext cx="669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6"/>
          <p:cNvGrpSpPr/>
          <p:nvPr/>
        </p:nvGrpSpPr>
        <p:grpSpPr>
          <a:xfrm>
            <a:off x="360360" y="1787400"/>
            <a:ext cx="3292560" cy="557280"/>
            <a:chOff x="360360" y="1787400"/>
            <a:chExt cx="3292560" cy="557280"/>
          </a:xfrm>
        </p:grpSpPr>
        <p:sp>
          <p:nvSpPr>
            <p:cNvPr id="280" name="Freeform 41"/>
            <p:cNvSpPr/>
            <p:nvPr/>
          </p:nvSpPr>
          <p:spPr>
            <a:xfrm>
              <a:off x="360360" y="1787400"/>
              <a:ext cx="66384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2"/>
            <p:cNvSpPr/>
            <p:nvPr/>
          </p:nvSpPr>
          <p:spPr>
            <a:xfrm>
              <a:off x="1019160" y="1814400"/>
              <a:ext cx="6987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3"/>
            <p:cNvSpPr/>
            <p:nvPr/>
          </p:nvSpPr>
          <p:spPr>
            <a:xfrm>
              <a:off x="169884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4"/>
            <p:cNvSpPr/>
            <p:nvPr/>
          </p:nvSpPr>
          <p:spPr>
            <a:xfrm>
              <a:off x="234648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5"/>
            <p:cNvSpPr/>
            <p:nvPr/>
          </p:nvSpPr>
          <p:spPr>
            <a:xfrm>
              <a:off x="2995560" y="1814400"/>
              <a:ext cx="6573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3643200" y="1787400"/>
            <a:ext cx="3292560" cy="557280"/>
            <a:chOff x="3643200" y="1787400"/>
            <a:chExt cx="3292560" cy="557280"/>
          </a:xfrm>
        </p:grpSpPr>
        <p:sp>
          <p:nvSpPr>
            <p:cNvPr id="286" name="Freeform 48"/>
            <p:cNvSpPr/>
            <p:nvPr/>
          </p:nvSpPr>
          <p:spPr>
            <a:xfrm>
              <a:off x="3643200" y="1787400"/>
              <a:ext cx="66384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9"/>
            <p:cNvSpPr/>
            <p:nvPr/>
          </p:nvSpPr>
          <p:spPr>
            <a:xfrm>
              <a:off x="4302000" y="1814400"/>
              <a:ext cx="6987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0"/>
            <p:cNvSpPr/>
            <p:nvPr/>
          </p:nvSpPr>
          <p:spPr>
            <a:xfrm>
              <a:off x="498168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1"/>
            <p:cNvSpPr/>
            <p:nvPr/>
          </p:nvSpPr>
          <p:spPr>
            <a:xfrm>
              <a:off x="5629320" y="1814400"/>
              <a:ext cx="65700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2"/>
            <p:cNvSpPr/>
            <p:nvPr/>
          </p:nvSpPr>
          <p:spPr>
            <a:xfrm>
              <a:off x="6278400" y="1814400"/>
              <a:ext cx="657360" cy="53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53"/>
          <p:cNvSpPr/>
          <p:nvPr/>
        </p:nvSpPr>
        <p:spPr>
          <a:xfrm>
            <a:off x="108000" y="907920"/>
            <a:ext cx="934920" cy="581400"/>
          </a:xfrm>
          <a:prstGeom prst="rect">
            <a:avLst/>
          </a:prstGeom>
          <a:solidFill>
            <a:srgbClr val="ffa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8"/>
          <p:cNvSpPr/>
          <p:nvPr/>
        </p:nvSpPr>
        <p:spPr>
          <a:xfrm>
            <a:off x="395280" y="148428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7-DH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9"/>
          <p:cNvSpPr/>
          <p:nvPr/>
        </p:nvSpPr>
        <p:spPr>
          <a:xfrm>
            <a:off x="5364000" y="1413000"/>
            <a:ext cx="356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LECALCIF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0"/>
          <p:cNvSpPr/>
          <p:nvPr/>
        </p:nvSpPr>
        <p:spPr>
          <a:xfrm>
            <a:off x="4067280" y="620640"/>
            <a:ext cx="1008000" cy="863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2"/>
          <p:cNvSpPr/>
          <p:nvPr/>
        </p:nvSpPr>
        <p:spPr>
          <a:xfrm>
            <a:off x="4068720" y="1708200"/>
            <a:ext cx="9349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4"/>
          <p:cNvSpPr/>
          <p:nvPr/>
        </p:nvSpPr>
        <p:spPr>
          <a:xfrm>
            <a:off x="6300720" y="407664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5-HO.C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5"/>
          <p:cNvSpPr/>
          <p:nvPr/>
        </p:nvSpPr>
        <p:spPr>
          <a:xfrm>
            <a:off x="6300720" y="5013360"/>
            <a:ext cx="259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1,25-HO.C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Oval 4"/>
          <p:cNvSpPr/>
          <p:nvPr/>
        </p:nvSpPr>
        <p:spPr>
          <a:xfrm>
            <a:off x="1979640" y="476280"/>
            <a:ext cx="5040360" cy="446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395280" y="270828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ELULA 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3565440" y="1123920"/>
            <a:ext cx="2448000" cy="172728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"/>
          <p:cNvPicPr/>
          <p:nvPr/>
        </p:nvPicPr>
        <p:blipFill>
          <a:blip r:embed="rId1"/>
          <a:srcRect l="21523" t="8955" r="26879" b="75693"/>
          <a:stretch/>
        </p:blipFill>
        <p:spPr>
          <a:xfrm>
            <a:off x="3276720" y="2131920"/>
            <a:ext cx="3456000" cy="8636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302" name="Oval 10"/>
          <p:cNvSpPr/>
          <p:nvPr/>
        </p:nvSpPr>
        <p:spPr>
          <a:xfrm>
            <a:off x="3276720" y="2492280"/>
            <a:ext cx="863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5796000" y="2997360"/>
            <a:ext cx="712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5076720" y="5373720"/>
            <a:ext cx="158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4"/>
          <p:cNvSpPr/>
          <p:nvPr/>
        </p:nvSpPr>
        <p:spPr>
          <a:xfrm>
            <a:off x="2700360" y="5157720"/>
            <a:ext cx="1728720" cy="115092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"/>
          <p:cNvSpPr/>
          <p:nvPr/>
        </p:nvSpPr>
        <p:spPr>
          <a:xfrm flipH="1" flipV="1">
            <a:off x="1907640" y="5084640"/>
            <a:ext cx="721080" cy="432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179280" y="46530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 ó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steocl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900000" y="260280"/>
            <a:ext cx="2159280" cy="581400"/>
          </a:xfrm>
          <a:prstGeom prst="rect">
            <a:avLst/>
          </a:prstGeom>
          <a:solidFill>
            <a:srgbClr val="f3e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1,25-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9"/>
          <p:cNvSpPr/>
          <p:nvPr/>
        </p:nvSpPr>
        <p:spPr>
          <a:xfrm>
            <a:off x="3132000" y="404640"/>
            <a:ext cx="1368720" cy="11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>
            <a:off x="2050560" y="5950080"/>
            <a:ext cx="576360" cy="287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395280" y="260280"/>
            <a:ext cx="8380440" cy="7923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ITAMINA E (Tocofero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0920" y="1197000"/>
            <a:ext cx="8642160" cy="5516640"/>
          </a:xfrm>
          <a:prstGeom prst="rect">
            <a:avLst/>
          </a:prstGeom>
          <a:gradFill rotWithShape="0">
            <a:gsLst>
              <a:gs pos="0">
                <a:srgbClr val="706b02"/>
              </a:gs>
              <a:gs pos="100000">
                <a:srgbClr val="f3e80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Potente antioxid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Evita la propagación de las reacciones de peroxi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Interviene en los procesos inflam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mponente de las membranas celulares donde puede  reaccionar contra los radicales l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DE LA VIT.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2627280" y="4508640"/>
            <a:ext cx="3241800" cy="18619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0"/>
          <p:cNvGrpSpPr/>
          <p:nvPr/>
        </p:nvGrpSpPr>
        <p:grpSpPr>
          <a:xfrm>
            <a:off x="539640" y="2349360"/>
            <a:ext cx="1344600" cy="1871640"/>
            <a:chOff x="539640" y="2349360"/>
            <a:chExt cx="1344600" cy="1871640"/>
          </a:xfrm>
        </p:grpSpPr>
        <p:sp>
          <p:nvSpPr>
            <p:cNvPr id="317" name="Freeform 11"/>
            <p:cNvSpPr/>
            <p:nvPr/>
          </p:nvSpPr>
          <p:spPr>
            <a:xfrm>
              <a:off x="539640" y="2349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"/>
            <p:cNvSpPr/>
            <p:nvPr/>
          </p:nvSpPr>
          <p:spPr>
            <a:xfrm>
              <a:off x="803160" y="2357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13"/>
          <p:cNvSpPr/>
          <p:nvPr/>
        </p:nvSpPr>
        <p:spPr>
          <a:xfrm rot="19789800">
            <a:off x="324360" y="400500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4"/>
          <p:cNvSpPr/>
          <p:nvPr/>
        </p:nvSpPr>
        <p:spPr>
          <a:xfrm>
            <a:off x="1476360" y="1268280"/>
            <a:ext cx="3095640" cy="201636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COFE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+ BI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+ LI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"/>
          <p:cNvSpPr/>
          <p:nvPr/>
        </p:nvSpPr>
        <p:spPr>
          <a:xfrm flipH="1">
            <a:off x="1763640" y="306864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6"/>
          <p:cNvSpPr/>
          <p:nvPr/>
        </p:nvSpPr>
        <p:spPr>
          <a:xfrm>
            <a:off x="1908000" y="3405240"/>
            <a:ext cx="2016360" cy="1752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7"/>
          <p:cNvSpPr/>
          <p:nvPr/>
        </p:nvSpPr>
        <p:spPr>
          <a:xfrm rot="19590000">
            <a:off x="3492000" y="2997000"/>
            <a:ext cx="2592360" cy="93636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ILOMIC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8"/>
          <p:cNvSpPr/>
          <p:nvPr/>
        </p:nvSpPr>
        <p:spPr>
          <a:xfrm flipV="1">
            <a:off x="5148360" y="4220640"/>
            <a:ext cx="1368360" cy="792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9"/>
          <p:cNvSpPr/>
          <p:nvPr/>
        </p:nvSpPr>
        <p:spPr>
          <a:xfrm>
            <a:off x="5867280" y="3357720"/>
            <a:ext cx="1440000" cy="792000"/>
          </a:xfrm>
          <a:prstGeom prst="ellipse">
            <a:avLst/>
          </a:prstGeom>
          <a:solidFill>
            <a:srgbClr val="faef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0"/>
          <p:cNvSpPr/>
          <p:nvPr/>
        </p:nvSpPr>
        <p:spPr>
          <a:xfrm>
            <a:off x="6732720" y="1484280"/>
            <a:ext cx="2016000" cy="151308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1"/>
          <p:cNvSpPr/>
          <p:nvPr/>
        </p:nvSpPr>
        <p:spPr>
          <a:xfrm>
            <a:off x="8172360" y="1341360"/>
            <a:ext cx="79236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2"/>
          <p:cNvSpPr/>
          <p:nvPr/>
        </p:nvSpPr>
        <p:spPr>
          <a:xfrm flipH="1">
            <a:off x="8459280" y="2565360"/>
            <a:ext cx="73080" cy="230364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3"/>
          <p:cNvSpPr/>
          <p:nvPr/>
        </p:nvSpPr>
        <p:spPr>
          <a:xfrm>
            <a:off x="7885080" y="3573360"/>
            <a:ext cx="1008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F 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7451640" y="45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5"/>
          <p:cNvSpPr/>
          <p:nvPr/>
        </p:nvSpPr>
        <p:spPr>
          <a:xfrm>
            <a:off x="539640" y="196920"/>
            <a:ext cx="7920000" cy="7124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O DE ACCION DE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5"/>
          <p:cNvGraphicFramePr/>
          <p:nvPr/>
        </p:nvGraphicFramePr>
        <p:xfrm>
          <a:off x="611280" y="1119240"/>
          <a:ext cx="597672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19240"/>
                    <a:ext cx="597672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Rectangle 8"/>
          <p:cNvSpPr/>
          <p:nvPr/>
        </p:nvSpPr>
        <p:spPr>
          <a:xfrm>
            <a:off x="1269360" y="249228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illo benzoquinona y una cadena fit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0" y="3068640"/>
            <a:ext cx="3241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s gra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oliinsatu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3564000" y="3716280"/>
            <a:ext cx="18000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5580000" y="3141720"/>
            <a:ext cx="3311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adical peróxido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4067280" y="5589720"/>
            <a:ext cx="3241440" cy="107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. G. poliins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gene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3205080" y="4076640"/>
            <a:ext cx="2303640" cy="947160"/>
          </a:xfrm>
          <a:prstGeom prst="rect">
            <a:avLst/>
          </a:prstGeom>
          <a:solidFill>
            <a:srgbClr val="a7e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adicales    del oxí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6227640" y="4437000"/>
            <a:ext cx="0" cy="936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8"/>
          <p:cNvSpPr/>
          <p:nvPr/>
        </p:nvSpPr>
        <p:spPr>
          <a:xfrm>
            <a:off x="7093080" y="4221000"/>
            <a:ext cx="1439640" cy="576360"/>
          </a:xfrm>
          <a:prstGeom prst="ellipse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7343640" y="5084640"/>
            <a:ext cx="1800360" cy="94716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adical tocofer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0"/>
          <p:cNvSpPr/>
          <p:nvPr/>
        </p:nvSpPr>
        <p:spPr>
          <a:xfrm>
            <a:off x="6588000" y="4508640"/>
            <a:ext cx="432000" cy="1008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7"/>
          <p:cNvSpPr/>
          <p:nvPr/>
        </p:nvSpPr>
        <p:spPr>
          <a:xfrm>
            <a:off x="179280" y="5013360"/>
            <a:ext cx="305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UENTES DE VIT.E y 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611280" y="1628640"/>
            <a:ext cx="7489800" cy="289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eites veg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u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n pequeña proporción: Carnes, manteca,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aceite"/>
          <p:cNvPicPr/>
          <p:nvPr/>
        </p:nvPicPr>
        <p:blipFill>
          <a:blip r:embed="rId1"/>
          <a:stretch/>
        </p:blipFill>
        <p:spPr>
          <a:xfrm>
            <a:off x="5433840" y="1268280"/>
            <a:ext cx="1946520" cy="2376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nueces"/>
          <p:cNvPicPr/>
          <p:nvPr/>
        </p:nvPicPr>
        <p:blipFill>
          <a:blip r:embed="rId2"/>
          <a:stretch/>
        </p:blipFill>
        <p:spPr>
          <a:xfrm>
            <a:off x="7408800" y="1268280"/>
            <a:ext cx="1735200" cy="2127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3564000" y="4653000"/>
            <a:ext cx="5256000" cy="1937880"/>
          </a:xfrm>
          <a:prstGeom prst="rect">
            <a:avLst/>
          </a:prstGeom>
          <a:solidFill>
            <a:srgbClr val="f3e80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dulto 10-15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mbarazada y en lactancia 20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nte 5 mg/día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3132000" y="4508640"/>
            <a:ext cx="935280" cy="2160360"/>
          </a:xfrm>
          <a:custGeom>
            <a:avLst/>
            <a:gdLst>
              <a:gd name="textAreaLeft" fmla="*/ 597600 w 935280"/>
              <a:gd name="textAreaRight" fmla="*/ 935640 w 935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ISPONIBILIDAD DE  VITAMINA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179280" y="1557360"/>
            <a:ext cx="8785440" cy="5222520"/>
          </a:xfrm>
          <a:prstGeom prst="rect">
            <a:avLst/>
          </a:prstGeom>
          <a:gradFill rotWithShape="0">
            <a:gsLst>
              <a:gs pos="0">
                <a:srgbClr val="764e44"/>
              </a:gs>
              <a:gs pos="100000">
                <a:srgbClr val="ffa8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AVITAMINOSIS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e cierta fragilidad en los </a:t>
            </a:r>
            <a:r>
              <a:rPr b="1" lang="es-ES" sz="3200" spc="-1" strike="noStrike" u="sng">
                <a:solidFill>
                  <a:srgbClr val="cc0066"/>
                </a:solidFill>
                <a:uFillTx/>
                <a:latin typeface="Arial"/>
              </a:rPr>
              <a:t>GLÓBULOS ROJOS</a:t>
            </a:r>
            <a:r>
              <a:rPr b="0" lang="es-ES" sz="3200" spc="-1" strike="noStrike" u="sng">
                <a:solidFill>
                  <a:srgbClr val="cc0066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cién na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matur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observa deficiencia de esta vitamina, lo que provoca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nemia, trombosis, edema, reticulocitosi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ff"/>
                </a:solidFill>
                <a:uFillTx/>
                <a:latin typeface="Arial"/>
              </a:rPr>
              <a:t>HIPERVITAMINOSI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han observado efectos tóx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324000" y="260280"/>
            <a:ext cx="84564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VITAMINA K (Antihemorrág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523880" y="1211400"/>
            <a:ext cx="845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1830240" y="3213000"/>
            <a:ext cx="73137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sintetiza en el organismo, en el tracto intestinal, por bacterias intest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viene en el proceso de coagulación: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ando factores de coa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n reacciones de carbox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u acción es inhibida competitivamente por anticoagulantes (antagonis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5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0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0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VITAMINA K FILOQUIN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2"/>
          <p:cNvSpPr/>
          <p:nvPr/>
        </p:nvSpPr>
        <p:spPr>
          <a:xfrm>
            <a:off x="7524720" y="3500280"/>
            <a:ext cx="0" cy="1079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5076720" y="4653000"/>
            <a:ext cx="3996000" cy="2022480"/>
          </a:xfrm>
          <a:prstGeom prst="rect">
            <a:avLst/>
          </a:prstGeom>
          <a:solidFill>
            <a:srgbClr val="a7e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Bacterias Intest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 la porción distal de intestino delgado y del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5"/>
          <p:cNvSpPr/>
          <p:nvPr/>
        </p:nvSpPr>
        <p:spPr>
          <a:xfrm>
            <a:off x="1042920" y="1989000"/>
            <a:ext cx="504720" cy="50328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6"/>
          <p:cNvSpPr/>
          <p:nvPr/>
        </p:nvSpPr>
        <p:spPr>
          <a:xfrm>
            <a:off x="6300720" y="1989000"/>
            <a:ext cx="504720" cy="503280"/>
          </a:xfrm>
          <a:prstGeom prst="ellipse">
            <a:avLst/>
          </a:prstGeom>
          <a:solidFill>
            <a:srgbClr val="bbe0e3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144360" y="4365720"/>
            <a:ext cx="4643640" cy="9471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les, lechuga, repollo, hígado y carne de ter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395280" y="5516640"/>
            <a:ext cx="3564000" cy="101592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dultos: 65-80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ntes: 1-2 m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0" descr="http://tbn0.google.com/images?q=tbn:CcgQhy2MHcUoBM:http://www.granjasdeluruguay.com.uy/materiales/verduras-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413000"/>
            <a:ext cx="4537080" cy="276696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4"/>
          <p:cNvGrpSpPr/>
          <p:nvPr/>
        </p:nvGrpSpPr>
        <p:grpSpPr>
          <a:xfrm>
            <a:off x="179280" y="1844640"/>
            <a:ext cx="8713440" cy="1655280"/>
            <a:chOff x="179280" y="1844640"/>
            <a:chExt cx="8713440" cy="1655280"/>
          </a:xfrm>
        </p:grpSpPr>
        <p:pic>
          <p:nvPicPr>
            <p:cNvPr id="366" name="Picture 5" descr="vitk1"/>
            <p:cNvPicPr/>
            <p:nvPr/>
          </p:nvPicPr>
          <p:blipFill>
            <a:blip r:embed="rId3"/>
            <a:stretch/>
          </p:blipFill>
          <p:spPr>
            <a:xfrm>
              <a:off x="179280" y="1875960"/>
              <a:ext cx="4315680" cy="15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6" descr="vitk2"/>
            <p:cNvPicPr/>
            <p:nvPr/>
          </p:nvPicPr>
          <p:blipFill>
            <a:blip r:embed="rId4"/>
            <a:stretch/>
          </p:blipFill>
          <p:spPr>
            <a:xfrm>
              <a:off x="5371920" y="1844640"/>
              <a:ext cx="3520800" cy="165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Text Box 14"/>
          <p:cNvSpPr/>
          <p:nvPr/>
        </p:nvSpPr>
        <p:spPr>
          <a:xfrm>
            <a:off x="250920" y="3573360"/>
            <a:ext cx="3744720" cy="52056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,4 Naftoquin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SUMEN DE LAS VITAMINAS LIPOSOLU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964720" cy="5445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 excepción de la Vitamina D, se encuentran en alimentos vegetales y animales en distinta prop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avitaminosis se produce generalmente por mala absorción de lípidos o disminución en la excreción de bi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ueden almacenarse en los tejidos algunas por 2-3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ueden generar hipervitaminosis o intox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0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5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0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5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BIOMOLEC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11280" y="2852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OLECULAS SI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ACROMOLE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780000" y="2205000"/>
            <a:ext cx="2520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UCLEO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ONOSACA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76720" y="4869000"/>
            <a:ext cx="338436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CIDOS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OLISACA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  <a:ea typeface="Arial"/>
              </a:rPr>
              <a:t>LI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5940360" y="3573360"/>
            <a:ext cx="28098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826920" y="260280"/>
            <a:ext cx="7772400" cy="800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VITAMINAS HIDROSOLUBL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95280" y="1268280"/>
            <a:ext cx="7777080" cy="2151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itamina C, Vitaminas del Complejo B:  B12, B2, B6, niacina, ácido fólico, biotina y ác. Pantoté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395280" y="3212640"/>
            <a:ext cx="8229600" cy="302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se acumulan en el cuer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e transportan en la sangre unidas a proteínas plasmá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n los procesos que producen energía metabó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0" y="1341360"/>
            <a:ext cx="9144000" cy="47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itam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iam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Tiamina Pirofosfato Descarboxilación oxid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boflavina  FAD, FM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Oxido-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iacin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NAD, NADP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xido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 Pantotén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Coenzima A         Transferencia de grupos a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ridoxal      Piridoxal fosfato     Transan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otin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biotinil                    Carbox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ido fólico      Tetra hidrofolato    Transferencia de unidade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un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Cianocobalamina   Met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116000" y="189000"/>
            <a:ext cx="7201080" cy="1068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 las Vitaminas del complej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IACINA O VITAMINA B3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IBOFLAVINA O VITAMINA B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8"/>
          <p:cNvGrpSpPr/>
          <p:nvPr/>
        </p:nvGrpSpPr>
        <p:grpSpPr>
          <a:xfrm>
            <a:off x="4932360" y="1197000"/>
            <a:ext cx="3456000" cy="3951720"/>
            <a:chOff x="4932360" y="1197000"/>
            <a:chExt cx="3456000" cy="3951720"/>
          </a:xfrm>
        </p:grpSpPr>
        <p:pic>
          <p:nvPicPr>
            <p:cNvPr id="378" name="Picture 6" descr="B2-riboflavin"/>
            <p:cNvPicPr/>
            <p:nvPr/>
          </p:nvPicPr>
          <p:blipFill>
            <a:blip r:embed="rId1"/>
            <a:stretch/>
          </p:blipFill>
          <p:spPr>
            <a:xfrm>
              <a:off x="4932360" y="1197000"/>
              <a:ext cx="345600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9"/>
            <p:cNvSpPr/>
            <p:nvPr/>
          </p:nvSpPr>
          <p:spPr>
            <a:xfrm>
              <a:off x="5651640" y="4567320"/>
              <a:ext cx="26654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000000"/>
                  </a:solidFill>
                  <a:latin typeface="Arial"/>
                </a:rPr>
                <a:t>Riboflav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1"/>
          <p:cNvSpPr/>
          <p:nvPr/>
        </p:nvSpPr>
        <p:spPr>
          <a:xfrm>
            <a:off x="5076720" y="5229360"/>
            <a:ext cx="288000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AD (F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0"/>
          <p:cNvSpPr/>
          <p:nvPr/>
        </p:nvSpPr>
        <p:spPr>
          <a:xfrm>
            <a:off x="154764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37"/>
          <p:cNvGrpSpPr/>
          <p:nvPr/>
        </p:nvGrpSpPr>
        <p:grpSpPr>
          <a:xfrm>
            <a:off x="395280" y="1773360"/>
            <a:ext cx="2879640" cy="3173760"/>
            <a:chOff x="395280" y="1773360"/>
            <a:chExt cx="2879640" cy="3173760"/>
          </a:xfrm>
        </p:grpSpPr>
        <p:grpSp>
          <p:nvGrpSpPr>
            <p:cNvPr id="383" name="Group 35"/>
            <p:cNvGrpSpPr/>
            <p:nvPr/>
          </p:nvGrpSpPr>
          <p:grpSpPr>
            <a:xfrm>
              <a:off x="395280" y="1773360"/>
              <a:ext cx="2808360" cy="2552400"/>
              <a:chOff x="395280" y="1773360"/>
              <a:chExt cx="2808360" cy="2552400"/>
            </a:xfrm>
          </p:grpSpPr>
          <p:sp>
            <p:nvSpPr>
              <p:cNvPr id="384" name="Text Box 24"/>
              <p:cNvSpPr/>
              <p:nvPr/>
            </p:nvSpPr>
            <p:spPr>
              <a:xfrm>
                <a:off x="971280" y="1773360"/>
                <a:ext cx="576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5" name="Picture 26" descr="NAD"/>
              <p:cNvPicPr/>
              <p:nvPr/>
            </p:nvPicPr>
            <p:blipFill>
              <a:blip r:embed="rId2"/>
              <a:srcRect l="-3436" t="48821" r="69095" b="-1364"/>
              <a:stretch/>
            </p:blipFill>
            <p:spPr>
              <a:xfrm>
                <a:off x="395280" y="2421000"/>
                <a:ext cx="2808360" cy="189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28"/>
              <p:cNvSpPr/>
              <p:nvPr/>
            </p:nvSpPr>
            <p:spPr>
              <a:xfrm>
                <a:off x="826920" y="2133720"/>
                <a:ext cx="7207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29"/>
              <p:cNvSpPr/>
              <p:nvPr/>
            </p:nvSpPr>
            <p:spPr>
              <a:xfrm>
                <a:off x="971280" y="3500280"/>
                <a:ext cx="43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│</a:t>
                </a: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31"/>
            <p:cNvSpPr/>
            <p:nvPr/>
          </p:nvSpPr>
          <p:spPr>
            <a:xfrm>
              <a:off x="466560" y="4365720"/>
              <a:ext cx="2808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icotinami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32"/>
          <p:cNvSpPr/>
          <p:nvPr/>
        </p:nvSpPr>
        <p:spPr>
          <a:xfrm>
            <a:off x="539640" y="5229360"/>
            <a:ext cx="288000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AD (NA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3"/>
          <p:cNvSpPr/>
          <p:nvPr/>
        </p:nvSpPr>
        <p:spPr>
          <a:xfrm>
            <a:off x="179280" y="5911920"/>
            <a:ext cx="846000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vienen  como cofactor enzimático en el metabolismo energético de 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2124000" y="2421000"/>
            <a:ext cx="1656000" cy="5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NIACINA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y 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468360" y="4219560"/>
            <a:ext cx="5076720" cy="18180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ombres: 12,0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: 11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395280" y="1341360"/>
            <a:ext cx="43210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ar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Triptof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7" descr="pescado"/>
          <p:cNvPicPr/>
          <p:nvPr/>
        </p:nvPicPr>
        <p:blipFill>
          <a:blip r:embed="rId1"/>
          <a:stretch/>
        </p:blipFill>
        <p:spPr>
          <a:xfrm>
            <a:off x="4716360" y="1628640"/>
            <a:ext cx="1776600" cy="22338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9"/>
          <p:cNvSpPr/>
          <p:nvPr/>
        </p:nvSpPr>
        <p:spPr>
          <a:xfrm>
            <a:off x="324000" y="6237360"/>
            <a:ext cx="511164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: Pela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0"/>
          <p:cNvSpPr/>
          <p:nvPr/>
        </p:nvSpPr>
        <p:spPr>
          <a:xfrm>
            <a:off x="5940360" y="4724280"/>
            <a:ext cx="2519280" cy="1555920"/>
          </a:xfrm>
          <a:prstGeom prst="ellipse">
            <a:avLst/>
          </a:prstGeom>
          <a:solidFill>
            <a:srgbClr val="ea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rm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ar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m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carne vaca"/>
          <p:cNvPicPr/>
          <p:nvPr/>
        </p:nvPicPr>
        <p:blipFill>
          <a:blip r:embed="rId2"/>
          <a:stretch/>
        </p:blipFill>
        <p:spPr>
          <a:xfrm>
            <a:off x="6300720" y="1268280"/>
            <a:ext cx="25923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24000" y="189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UENTES DE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RIBOFLAVINA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y NECESIDADES D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2340000" y="4941720"/>
            <a:ext cx="4392720" cy="202248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         Hombres: 1, 1 mg/ d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: 0,9 mg. /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68360" y="1916280"/>
            <a:ext cx="489744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(Se destruye por luz 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4" descr="carne sana"/>
          <p:cNvPicPr/>
          <p:nvPr/>
        </p:nvPicPr>
        <p:blipFill>
          <a:blip r:embed="rId1"/>
          <a:stretch/>
        </p:blipFill>
        <p:spPr>
          <a:xfrm>
            <a:off x="5580000" y="2133720"/>
            <a:ext cx="3240000" cy="2441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images"/>
          <p:cNvPicPr/>
          <p:nvPr/>
        </p:nvPicPr>
        <p:blipFill>
          <a:blip r:embed="rId2"/>
          <a:stretch/>
        </p:blipFill>
        <p:spPr>
          <a:xfrm>
            <a:off x="2771640" y="1903320"/>
            <a:ext cx="203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COA"/>
          <p:cNvPicPr/>
          <p:nvPr/>
        </p:nvPicPr>
        <p:blipFill>
          <a:blip r:embed="rId1"/>
          <a:stretch/>
        </p:blipFill>
        <p:spPr>
          <a:xfrm>
            <a:off x="539640" y="1341360"/>
            <a:ext cx="6770880" cy="23749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"/>
          <p:cNvSpPr/>
          <p:nvPr/>
        </p:nvSpPr>
        <p:spPr>
          <a:xfrm>
            <a:off x="250920" y="3284640"/>
            <a:ext cx="41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enzima A (CoA-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 PANTOTENICO O VIT B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50920" y="3860640"/>
            <a:ext cx="8569080" cy="2531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STITUYENTE  DE LA COENZIM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tabolismo energ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Transferencia de grupos ac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Sí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1619280" y="1341360"/>
            <a:ext cx="2160720" cy="1224000"/>
          </a:xfrm>
          <a:prstGeom prst="rect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1403280" y="2637000"/>
            <a:ext cx="2335320" cy="580680"/>
          </a:xfrm>
          <a:prstGeom prst="rect">
            <a:avLst/>
          </a:prstGeom>
          <a:solidFill>
            <a:srgbClr val="d7f959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siduo de Ac. pantoté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7"/>
          <p:cNvSpPr/>
          <p:nvPr/>
        </p:nvSpPr>
        <p:spPr>
          <a:xfrm>
            <a:off x="1116000" y="2060640"/>
            <a:ext cx="705636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ayoría de los Alim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&gt; Huevo, Hígado y Lev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611280" y="6021360"/>
            <a:ext cx="40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611280" y="4149720"/>
            <a:ext cx="7705800" cy="1323000"/>
          </a:xfrm>
          <a:prstGeom prst="rect">
            <a:avLst/>
          </a:prstGeom>
          <a:gradFill rotWithShape="0">
            <a:gsLst>
              <a:gs pos="0">
                <a:srgbClr val="706b02"/>
              </a:gs>
              <a:gs pos="50000">
                <a:srgbClr val="f3e805"/>
              </a:gs>
              <a:gs pos="100000">
                <a:srgbClr val="706b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querimiento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4-6 mg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324000" y="5791320"/>
            <a:ext cx="8280360" cy="155628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Avitaminosi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: Atrofia del nervio óptico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324000" y="476280"/>
            <a:ext cx="8351640" cy="97164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FUENTES DE ACIDO PANTOTEN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TIAMINA O VITAMINA 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79280" y="3284640"/>
            <a:ext cx="2448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lnSpc>
                <a:spcPct val="95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4920" y="5084640"/>
            <a:ext cx="3384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Pirofosfato de 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547640" y="386064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547640" y="4437000"/>
            <a:ext cx="122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960" rIns="6696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1187280" y="3789360"/>
            <a:ext cx="0" cy="1150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25"/>
          <p:cNvGrpSpPr/>
          <p:nvPr/>
        </p:nvGrpSpPr>
        <p:grpSpPr>
          <a:xfrm>
            <a:off x="108000" y="1484280"/>
            <a:ext cx="3455640" cy="1564920"/>
            <a:chOff x="108000" y="1484280"/>
            <a:chExt cx="3455640" cy="1564920"/>
          </a:xfrm>
        </p:grpSpPr>
        <p:pic>
          <p:nvPicPr>
            <p:cNvPr id="425" name="Picture 6" descr="B1-thiamine"/>
            <p:cNvPicPr/>
            <p:nvPr/>
          </p:nvPicPr>
          <p:blipFill>
            <a:blip r:embed="rId1"/>
            <a:stretch/>
          </p:blipFill>
          <p:spPr>
            <a:xfrm>
              <a:off x="108000" y="1484280"/>
              <a:ext cx="3455640" cy="15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Oval 24"/>
            <p:cNvSpPr/>
            <p:nvPr/>
          </p:nvSpPr>
          <p:spPr>
            <a:xfrm>
              <a:off x="2081520" y="2541960"/>
              <a:ext cx="411480" cy="35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1189080" y="4076640"/>
            <a:ext cx="287280" cy="647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8" descr="trigo"/>
          <p:cNvPicPr/>
          <p:nvPr/>
        </p:nvPicPr>
        <p:blipFill>
          <a:blip r:embed="rId2"/>
          <a:stretch/>
        </p:blipFill>
        <p:spPr>
          <a:xfrm>
            <a:off x="7667640" y="155736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carne cerdo"/>
          <p:cNvPicPr/>
          <p:nvPr/>
        </p:nvPicPr>
        <p:blipFill>
          <a:blip r:embed="rId3"/>
          <a:stretch/>
        </p:blipFill>
        <p:spPr>
          <a:xfrm>
            <a:off x="7164360" y="3789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30"/>
          <p:cNvSpPr/>
          <p:nvPr/>
        </p:nvSpPr>
        <p:spPr>
          <a:xfrm>
            <a:off x="3780000" y="5589720"/>
            <a:ext cx="4248000" cy="52056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vitaminosis: Beri B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1"/>
          <p:cNvSpPr/>
          <p:nvPr/>
        </p:nvSpPr>
        <p:spPr>
          <a:xfrm>
            <a:off x="324000" y="6237360"/>
            <a:ext cx="7632720" cy="52056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querimiento nutricional: 0,9-1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851280" y="1557360"/>
            <a:ext cx="4535640" cy="3764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igado y carne de Cer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evad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roductos Láct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eg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8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8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8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8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IRIDOXINA  O VIT B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7" descr="b6"/>
          <p:cNvPicPr/>
          <p:nvPr/>
        </p:nvPicPr>
        <p:blipFill>
          <a:blip r:embed="rId1"/>
          <a:stretch/>
        </p:blipFill>
        <p:spPr>
          <a:xfrm>
            <a:off x="324000" y="1341360"/>
            <a:ext cx="2881080" cy="17924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8"/>
          <p:cNvSpPr/>
          <p:nvPr/>
        </p:nvSpPr>
        <p:spPr>
          <a:xfrm>
            <a:off x="543600" y="3284640"/>
            <a:ext cx="2076480" cy="94716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osfat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iridox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144360" y="5157720"/>
            <a:ext cx="89647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FUNCION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ES UNA COENZIMA DE ENZIMAS QUE INTERVIENEN EN EL METABOLISMO DE  LOS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3419640" y="1413000"/>
            <a:ext cx="460836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ar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es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5" descr="trigo"/>
          <p:cNvPicPr/>
          <p:nvPr/>
        </p:nvPicPr>
        <p:blipFill>
          <a:blip r:embed="rId2"/>
          <a:stretch/>
        </p:blipFill>
        <p:spPr>
          <a:xfrm>
            <a:off x="6372360" y="249228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5"/>
          <p:cNvSpPr/>
          <p:nvPr/>
        </p:nvSpPr>
        <p:spPr>
          <a:xfrm>
            <a:off x="250920" y="260280"/>
            <a:ext cx="8642160" cy="3115440"/>
          </a:xfrm>
          <a:prstGeom prst="rect">
            <a:avLst/>
          </a:prstGeom>
          <a:solidFill>
            <a:srgbClr val="ffa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 nutricionale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20 </a:t>
            </a: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/g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s 1,1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&gt;50 años 1,5-1,7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ujeres embarazas y en lactancia 1,9-2,0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iños 0,5-0,6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468360" y="5877000"/>
            <a:ext cx="489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vitaminosi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: Muy ra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395280" y="4221000"/>
            <a:ext cx="3672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Hipervitaminosi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Tóx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692360" y="3500280"/>
            <a:ext cx="4537080" cy="52056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Nivel máximo: 100 m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0"/>
          <p:cNvSpPr/>
          <p:nvPr/>
        </p:nvSpPr>
        <p:spPr>
          <a:xfrm>
            <a:off x="4140360" y="4941720"/>
            <a:ext cx="144144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5651640" y="4653000"/>
            <a:ext cx="32400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uropat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n 2" descr=""/>
          <p:cNvPicPr/>
          <p:nvPr/>
        </p:nvPicPr>
        <p:blipFill>
          <a:blip r:embed="rId1"/>
          <a:srcRect l="8889" t="0" r="5633" b="27013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IOTINA O 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VITAMINA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biotin"/>
          <p:cNvPicPr/>
          <p:nvPr/>
        </p:nvPicPr>
        <p:blipFill>
          <a:blip r:embed="rId1"/>
          <a:stretch/>
        </p:blipFill>
        <p:spPr>
          <a:xfrm>
            <a:off x="0" y="1413000"/>
            <a:ext cx="3600360" cy="2104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6"/>
          <p:cNvSpPr/>
          <p:nvPr/>
        </p:nvSpPr>
        <p:spPr>
          <a:xfrm>
            <a:off x="468360" y="3645000"/>
            <a:ext cx="7921440" cy="2969640"/>
          </a:xfrm>
          <a:prstGeom prst="rect">
            <a:avLst/>
          </a:prstGeom>
          <a:gradFill rotWithShape="0">
            <a:gsLst>
              <a:gs pos="0">
                <a:srgbClr val="6c744b"/>
              </a:gs>
              <a:gs pos="50000">
                <a:srgbClr val="eafba3"/>
              </a:gs>
              <a:gs pos="100000">
                <a:srgbClr val="6c74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FUNCIO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ACTÚA COMO </a:t>
            </a:r>
            <a:r>
              <a:rPr b="1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COENZIMA 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DE REACCIONES DE CARBOXILACIÓN Y TRANSFERENCIA DE GRUPOS AC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3708360" y="2205000"/>
            <a:ext cx="2462400" cy="5814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-Bi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BI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116000" y="1422360"/>
            <a:ext cx="5435640" cy="428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acterias Intest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Yema de h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evad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u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nueces"/>
          <p:cNvPicPr/>
          <p:nvPr/>
        </p:nvPicPr>
        <p:blipFill>
          <a:blip r:embed="rId1"/>
          <a:stretch/>
        </p:blipFill>
        <p:spPr>
          <a:xfrm>
            <a:off x="6651720" y="3500280"/>
            <a:ext cx="1881000" cy="230508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7"/>
          <p:cNvSpPr/>
          <p:nvPr/>
        </p:nvSpPr>
        <p:spPr>
          <a:xfrm>
            <a:off x="216000" y="5945040"/>
            <a:ext cx="85327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lara de huevo cruda inhibe su absor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images"/>
          <p:cNvPicPr/>
          <p:nvPr/>
        </p:nvPicPr>
        <p:blipFill>
          <a:blip r:embed="rId2"/>
          <a:stretch/>
        </p:blipFill>
        <p:spPr>
          <a:xfrm>
            <a:off x="6588000" y="1628640"/>
            <a:ext cx="1957680" cy="195768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1"/>
          <p:cNvSpPr/>
          <p:nvPr/>
        </p:nvSpPr>
        <p:spPr>
          <a:xfrm>
            <a:off x="3276720" y="4724280"/>
            <a:ext cx="3313080" cy="1169280"/>
          </a:xfrm>
          <a:prstGeom prst="rect">
            <a:avLst/>
          </a:prstGeom>
          <a:solidFill>
            <a:srgbClr val="05e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500"/>
                            </p:stCondLst>
                            <p:childTnLst>
                              <p:par>
                                <p:cTn id="1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85104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DE BI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8"/>
          <p:cNvGrpSpPr/>
          <p:nvPr/>
        </p:nvGrpSpPr>
        <p:grpSpPr>
          <a:xfrm>
            <a:off x="1511280" y="2565360"/>
            <a:ext cx="1344600" cy="1871640"/>
            <a:chOff x="1511280" y="2565360"/>
            <a:chExt cx="1344600" cy="1871640"/>
          </a:xfrm>
        </p:grpSpPr>
        <p:sp>
          <p:nvSpPr>
            <p:cNvPr id="457" name="Freeform 9"/>
            <p:cNvSpPr/>
            <p:nvPr/>
          </p:nvSpPr>
          <p:spPr>
            <a:xfrm>
              <a:off x="1511280" y="2565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0"/>
            <p:cNvSpPr/>
            <p:nvPr/>
          </p:nvSpPr>
          <p:spPr>
            <a:xfrm>
              <a:off x="1774800" y="2573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 Box 11"/>
          <p:cNvSpPr/>
          <p:nvPr/>
        </p:nvSpPr>
        <p:spPr>
          <a:xfrm rot="19789800">
            <a:off x="1295640" y="4220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2"/>
          <p:cNvSpPr/>
          <p:nvPr/>
        </p:nvSpPr>
        <p:spPr>
          <a:xfrm flipH="1">
            <a:off x="2268000" y="1989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611280" y="1557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 ACTIVO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4859280" y="2421000"/>
            <a:ext cx="3816360" cy="57960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LISINA    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730872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5292720" y="4076640"/>
            <a:ext cx="3311640" cy="520560"/>
          </a:xfrm>
          <a:prstGeom prst="rect">
            <a:avLst/>
          </a:prstGeom>
          <a:solidFill>
            <a:srgbClr val="ff9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O    BIO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9"/>
          <p:cNvSpPr/>
          <p:nvPr/>
        </p:nvSpPr>
        <p:spPr>
          <a:xfrm>
            <a:off x="5508720" y="2997360"/>
            <a:ext cx="0" cy="100800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020000" y="3068640"/>
            <a:ext cx="17287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zi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5003640" y="2060640"/>
            <a:ext cx="936720" cy="1224000"/>
          </a:xfrm>
          <a:prstGeom prst="ellipse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5292720" y="3645000"/>
            <a:ext cx="936720" cy="1224000"/>
          </a:xfrm>
          <a:prstGeom prst="ellipse">
            <a:avLst/>
          </a:prstGeom>
          <a:solidFill>
            <a:srgbClr val="bbe0e3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3"/>
          <p:cNvSpPr/>
          <p:nvPr/>
        </p:nvSpPr>
        <p:spPr>
          <a:xfrm>
            <a:off x="6300720" y="4292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2340000" y="5373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angre: Forma libre o unida a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5796000" y="2637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611280" y="260280"/>
            <a:ext cx="815184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ACIDO FO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496360" cy="5229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ción de glóbulos rojos junto con la vitamina B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íntesis de ADN que controla los factores ge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ón del tubo neural del bebe en las primeras semanas de ges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a maduración de glóbulos ro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9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4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9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4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IDO FOL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Bc-acidofolic"/>
          <p:cNvPicPr/>
          <p:nvPr/>
        </p:nvPicPr>
        <p:blipFill>
          <a:blip r:embed="rId1"/>
          <a:stretch/>
        </p:blipFill>
        <p:spPr>
          <a:xfrm>
            <a:off x="539640" y="981000"/>
            <a:ext cx="1832040" cy="273528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6"/>
          <p:cNvSpPr/>
          <p:nvPr/>
        </p:nvSpPr>
        <p:spPr>
          <a:xfrm>
            <a:off x="0" y="3789360"/>
            <a:ext cx="8893080" cy="2738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FU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RMA PARTE DEL ÁCIDO TETRAHIDROFÓLICO, (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ENZIM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DE REACCIONES DE TRANSFERENCIA DE RESTOS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UN CARB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2987640" y="981000"/>
            <a:ext cx="3816360" cy="289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ereales Integ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0" descr="http://tbn0.google.com/images?q=tbn:CcgQhy2MHcUoBM:http://www.granjasdeluruguay.com.uy/materiales/verduras-0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1197000"/>
            <a:ext cx="2556000" cy="15588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0"/>
          <p:cNvSpPr/>
          <p:nvPr/>
        </p:nvSpPr>
        <p:spPr>
          <a:xfrm>
            <a:off x="684360" y="6165720"/>
            <a:ext cx="7272360" cy="58140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: 200 </a:t>
            </a:r>
            <a:r>
              <a:rPr b="0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g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500"/>
                            </p:stCondLst>
                            <p:childTnLst>
                              <p:par>
                                <p:cTn id="1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8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68360" y="125280"/>
            <a:ext cx="82278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VITAMINA B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686800" cy="496728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ansportador de grupos M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cesita unirse al factor extrínseco para poder absorberse en í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transporta unida a una proteína (Transcobalamina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Se almacena en híg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labora en el metabolismo energético: Degradación de Acidos Grasos de número impar de átomos de carb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VITAMINA B12 O COBALAM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vitb12"/>
          <p:cNvPicPr/>
          <p:nvPr/>
        </p:nvPicPr>
        <p:blipFill>
          <a:blip r:embed="rId1"/>
          <a:stretch/>
        </p:blipFill>
        <p:spPr>
          <a:xfrm>
            <a:off x="395280" y="1197000"/>
            <a:ext cx="3254400" cy="45864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468360" y="3213000"/>
            <a:ext cx="7886520" cy="350604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FUNCIO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Coenzima de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versión de homocisteína a 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xidación de ácidos grasos de n° impar de átomos d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9640" y="836640"/>
            <a:ext cx="7848720" cy="219924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Formas activa de la Vitamina B</a:t>
            </a:r>
            <a:r>
              <a:rPr b="1" lang="es-AR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soxicobalamina (Coenzima B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AR" sz="3200" spc="-1" strike="noStrike">
                <a:solidFill>
                  <a:srgbClr val="0000ff"/>
                </a:solidFill>
                <a:latin typeface="Arial"/>
              </a:rPr>
              <a:t>(C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tilcobalamina </a:t>
            </a:r>
            <a:r>
              <a:rPr b="0" lang="es-AR" sz="3200" spc="-1" strike="noStrike">
                <a:solidFill>
                  <a:srgbClr val="0000ff"/>
                </a:solidFill>
                <a:latin typeface="Arial"/>
              </a:rPr>
              <a:t>(MeC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Line 22"/>
          <p:cNvSpPr/>
          <p:nvPr/>
        </p:nvSpPr>
        <p:spPr>
          <a:xfrm>
            <a:off x="2916360" y="2276640"/>
            <a:ext cx="71280" cy="24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"/>
          <p:cNvSpPr/>
          <p:nvPr/>
        </p:nvSpPr>
        <p:spPr>
          <a:xfrm>
            <a:off x="1332000" y="1916280"/>
            <a:ext cx="5400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2987640" y="1916280"/>
            <a:ext cx="2952720" cy="50472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2484360" y="4869000"/>
            <a:ext cx="3559320" cy="86508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OMOCIS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6"/>
          <p:cNvSpPr/>
          <p:nvPr/>
        </p:nvSpPr>
        <p:spPr>
          <a:xfrm>
            <a:off x="3492360" y="2349360"/>
            <a:ext cx="922320" cy="73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3492360" y="242100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  <a:ea typeface="SimSun"/>
              </a:rPr>
              <a:t>CH</a:t>
            </a:r>
            <a:r>
              <a:rPr b="1" lang="es-MX" sz="3200" spc="-1" strike="noStrike" baseline="-25000">
                <a:solidFill>
                  <a:srgbClr val="ff0000"/>
                </a:solidFill>
                <a:latin typeface="Arial"/>
                <a:ea typeface="SimSu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8"/>
          <p:cNvSpPr/>
          <p:nvPr/>
        </p:nvSpPr>
        <p:spPr>
          <a:xfrm rot="1593600">
            <a:off x="5364000" y="2565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c5c5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6300720" y="2708280"/>
            <a:ext cx="284328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SimSun"/>
              </a:rPr>
              <a:t>SÍNTESIS DE COMPUESTO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ción de B12 sobre transporte de grupos m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3"/>
          <p:cNvSpPr/>
          <p:nvPr/>
        </p:nvSpPr>
        <p:spPr>
          <a:xfrm>
            <a:off x="2916360" y="2233440"/>
            <a:ext cx="0" cy="1154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AutoShape 14"/>
          <p:cNvCxnSpPr>
            <a:stCxn id="489" idx="1"/>
            <a:endCxn id="488" idx="1"/>
          </p:cNvCxnSpPr>
          <p:nvPr/>
        </p:nvCxnSpPr>
        <p:spPr>
          <a:xfrm flipH="1" rot="10800000">
            <a:off x="2484000" y="2167920"/>
            <a:ext cx="504000" cy="3134160"/>
          </a:xfrm>
          <a:prstGeom prst="bentConnector3">
            <a:avLst>
              <a:gd name="adj1" fmla="val -45389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97" name="Line 15"/>
          <p:cNvSpPr/>
          <p:nvPr/>
        </p:nvSpPr>
        <p:spPr>
          <a:xfrm>
            <a:off x="2916360" y="2637000"/>
            <a:ext cx="64764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250920" y="3213000"/>
            <a:ext cx="186516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til-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9"/>
          <p:cNvSpPr/>
          <p:nvPr/>
        </p:nvSpPr>
        <p:spPr>
          <a:xfrm>
            <a:off x="900000" y="2205000"/>
            <a:ext cx="108108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/>
          <p:cNvSpPr/>
          <p:nvPr/>
        </p:nvSpPr>
        <p:spPr>
          <a:xfrm rot="16200000">
            <a:off x="1726920" y="2744280"/>
            <a:ext cx="792360" cy="287280"/>
          </a:xfrm>
          <a:custGeom>
            <a:avLst/>
            <a:gdLst>
              <a:gd name="textAreaLeft" fmla="*/ 138600 w 792360"/>
              <a:gd name="textAreaRight" fmla="*/ 574560 w 792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1"/>
          <p:cNvSpPr/>
          <p:nvPr/>
        </p:nvSpPr>
        <p:spPr>
          <a:xfrm>
            <a:off x="2195640" y="2421000"/>
            <a:ext cx="1081080" cy="936720"/>
          </a:xfrm>
          <a:prstGeom prst="ellipse">
            <a:avLst/>
          </a:prstGeom>
          <a:solidFill>
            <a:srgbClr val="f3e80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2340000" y="2637000"/>
            <a:ext cx="807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3"/>
          <p:cNvSpPr/>
          <p:nvPr/>
        </p:nvSpPr>
        <p:spPr>
          <a:xfrm rot="1857000">
            <a:off x="4427280" y="314172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c5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026831"/>
              </a:gs>
              <a:gs pos="50000">
                <a:srgbClr val="05e169"/>
              </a:gs>
              <a:gs pos="100000">
                <a:srgbClr val="02683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DE LA COBAL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HIGADO"/>
          <p:cNvPicPr/>
          <p:nvPr/>
        </p:nvPicPr>
        <p:blipFill>
          <a:blip r:embed="rId1"/>
          <a:srcRect l="0" t="25110" r="6056" b="2760"/>
          <a:stretch/>
        </p:blipFill>
        <p:spPr>
          <a:xfrm>
            <a:off x="3419640" y="2924280"/>
            <a:ext cx="3241440" cy="1861920"/>
          </a:xfrm>
          <a:prstGeom prst="rect">
            <a:avLst/>
          </a:prstGeom>
          <a:ln w="0">
            <a:noFill/>
          </a:ln>
        </p:spPr>
      </p:pic>
      <p:grpSp>
        <p:nvGrpSpPr>
          <p:cNvPr id="506" name="Group 8"/>
          <p:cNvGrpSpPr/>
          <p:nvPr/>
        </p:nvGrpSpPr>
        <p:grpSpPr>
          <a:xfrm>
            <a:off x="539640" y="3714840"/>
            <a:ext cx="1344600" cy="1871640"/>
            <a:chOff x="539640" y="3714840"/>
            <a:chExt cx="1344600" cy="1871640"/>
          </a:xfrm>
        </p:grpSpPr>
        <p:sp>
          <p:nvSpPr>
            <p:cNvPr id="507" name="Freeform 9"/>
            <p:cNvSpPr/>
            <p:nvPr/>
          </p:nvSpPr>
          <p:spPr>
            <a:xfrm>
              <a:off x="539640" y="371484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"/>
            <p:cNvSpPr/>
            <p:nvPr/>
          </p:nvSpPr>
          <p:spPr>
            <a:xfrm>
              <a:off x="803160" y="372276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Oval 12"/>
          <p:cNvSpPr/>
          <p:nvPr/>
        </p:nvSpPr>
        <p:spPr>
          <a:xfrm>
            <a:off x="2700360" y="981000"/>
            <a:ext cx="2663640" cy="1440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BA-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-C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>
            <a:off x="6877080" y="3213000"/>
            <a:ext cx="2016000" cy="1513080"/>
          </a:xfrm>
          <a:prstGeom prst="ellipse">
            <a:avLst/>
          </a:prstGeom>
          <a:solidFill>
            <a:srgbClr val="ff9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4" descr="ANd9GcS9XpcOfEIXphk44UC2swYYNpCKp2IInQjmjBJ70f63kP-jXW1P"/>
          <p:cNvPicPr/>
          <p:nvPr/>
        </p:nvPicPr>
        <p:blipFill>
          <a:blip r:embed="rId2"/>
          <a:stretch/>
        </p:blipFill>
        <p:spPr>
          <a:xfrm>
            <a:off x="468360" y="1484280"/>
            <a:ext cx="2095560" cy="21812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25"/>
          <p:cNvSpPr/>
          <p:nvPr/>
        </p:nvSpPr>
        <p:spPr>
          <a:xfrm>
            <a:off x="395280" y="2492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ptocor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6"/>
          <p:cNvSpPr/>
          <p:nvPr/>
        </p:nvSpPr>
        <p:spPr>
          <a:xfrm rot="20133000">
            <a:off x="1332000" y="3933360"/>
            <a:ext cx="158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3"/>
          <p:cNvSpPr/>
          <p:nvPr/>
        </p:nvSpPr>
        <p:spPr>
          <a:xfrm flipH="1">
            <a:off x="1619280" y="2997360"/>
            <a:ext cx="216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7"/>
          <p:cNvSpPr/>
          <p:nvPr/>
        </p:nvSpPr>
        <p:spPr>
          <a:xfrm>
            <a:off x="395280" y="4149720"/>
            <a:ext cx="720720" cy="792000"/>
          </a:xfrm>
          <a:prstGeom prst="ellipse">
            <a:avLst/>
          </a:prstGeom>
          <a:solidFill>
            <a:srgbClr val="fcf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0" y="3573360"/>
            <a:ext cx="971640" cy="792360"/>
          </a:xfrm>
          <a:prstGeom prst="ellipse">
            <a:avLst/>
          </a:prstGeom>
          <a:solidFill>
            <a:srgbClr val="f3e8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9"/>
          <p:cNvSpPr/>
          <p:nvPr/>
        </p:nvSpPr>
        <p:spPr>
          <a:xfrm rot="19635600">
            <a:off x="33480" y="564624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0"/>
          <p:cNvSpPr/>
          <p:nvPr/>
        </p:nvSpPr>
        <p:spPr>
          <a:xfrm>
            <a:off x="1979640" y="5013360"/>
            <a:ext cx="720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1"/>
          <p:cNvSpPr/>
          <p:nvPr/>
        </p:nvSpPr>
        <p:spPr>
          <a:xfrm>
            <a:off x="1763640" y="5877000"/>
            <a:ext cx="14414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T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32"/>
          <p:cNvSpPr/>
          <p:nvPr/>
        </p:nvSpPr>
        <p:spPr>
          <a:xfrm>
            <a:off x="3203640" y="4149720"/>
            <a:ext cx="1776240" cy="187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33"/>
          <p:cNvSpPr/>
          <p:nvPr/>
        </p:nvSpPr>
        <p:spPr>
          <a:xfrm>
            <a:off x="4716360" y="4653000"/>
            <a:ext cx="2880000" cy="1392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5"/>
          <p:cNvSpPr/>
          <p:nvPr/>
        </p:nvSpPr>
        <p:spPr>
          <a:xfrm>
            <a:off x="5940360" y="1844640"/>
            <a:ext cx="194472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6"/>
          <p:cNvSpPr/>
          <p:nvPr/>
        </p:nvSpPr>
        <p:spPr>
          <a:xfrm>
            <a:off x="5796000" y="1125360"/>
            <a:ext cx="2952720" cy="52056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7"/>
          <p:cNvSpPr/>
          <p:nvPr/>
        </p:nvSpPr>
        <p:spPr>
          <a:xfrm>
            <a:off x="586728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38"/>
          <p:cNvSpPr/>
          <p:nvPr/>
        </p:nvSpPr>
        <p:spPr>
          <a:xfrm flipH="1">
            <a:off x="4788000" y="1557360"/>
            <a:ext cx="1079280" cy="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9"/>
          <p:cNvSpPr/>
          <p:nvPr/>
        </p:nvSpPr>
        <p:spPr>
          <a:xfrm flipH="1">
            <a:off x="4716360" y="1989000"/>
            <a:ext cx="1224000" cy="0"/>
          </a:xfrm>
          <a:prstGeom prst="line">
            <a:avLst/>
          </a:prstGeom>
          <a:ln w="414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0"/>
          <p:cNvSpPr/>
          <p:nvPr/>
        </p:nvSpPr>
        <p:spPr>
          <a:xfrm>
            <a:off x="3780000" y="3357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41"/>
          <p:cNvSpPr/>
          <p:nvPr/>
        </p:nvSpPr>
        <p:spPr>
          <a:xfrm>
            <a:off x="3924360" y="5229360"/>
            <a:ext cx="2520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E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18"/>
          <p:cNvSpPr/>
          <p:nvPr/>
        </p:nvSpPr>
        <p:spPr>
          <a:xfrm>
            <a:off x="684360" y="404640"/>
            <a:ext cx="7705440" cy="2806200"/>
          </a:xfrm>
          <a:prstGeom prst="rect">
            <a:avLst/>
          </a:prstGeom>
          <a:gradFill rotWithShape="0">
            <a:gsLst>
              <a:gs pos="0">
                <a:srgbClr val="6c744b"/>
              </a:gs>
              <a:gs pos="100000">
                <a:srgbClr val="eafb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AVITAMI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cumulación de AG de cadena im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éficit de ácido fó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emia pernic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1042920" y="3933720"/>
            <a:ext cx="6624720" cy="246672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s di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dultos: 0,9-1,0 </a:t>
            </a:r>
            <a:r>
              <a:rPr b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cianos: 2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mbarazadas 2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8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2"/>
          <p:cNvSpPr/>
          <p:nvPr/>
        </p:nvSpPr>
        <p:spPr>
          <a:xfrm>
            <a:off x="250920" y="404640"/>
            <a:ext cx="2592360" cy="187344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BUE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NUTRI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95640" y="549360"/>
            <a:ext cx="3168720" cy="520560"/>
          </a:xfrm>
          <a:prstGeom prst="rect">
            <a:avLst/>
          </a:prstGeom>
          <a:solidFill>
            <a:srgbClr val="0d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BUENA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924360" y="1844640"/>
            <a:ext cx="3600360" cy="947160"/>
          </a:xfrm>
          <a:prstGeom prst="rect">
            <a:avLst/>
          </a:prstGeom>
          <a:solidFill>
            <a:srgbClr val="0d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PREVENCION DE ENFERM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0" y="2852640"/>
            <a:ext cx="2303640" cy="2376720"/>
          </a:xfrm>
          <a:prstGeom prst="ellipse">
            <a:avLst/>
          </a:prstGeom>
          <a:gradFill rotWithShape="0">
            <a:gsLst>
              <a:gs pos="0">
                <a:srgbClr val="746f0a"/>
              </a:gs>
              <a:gs pos="50000">
                <a:srgbClr val="faef16"/>
              </a:gs>
              <a:gs pos="100000">
                <a:srgbClr val="746f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nfermed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ró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2195640" y="3573360"/>
            <a:ext cx="2303280" cy="2376720"/>
          </a:xfrm>
          <a:prstGeom prst="ellipse">
            <a:avLst/>
          </a:prstGeom>
          <a:gradFill rotWithShape="0">
            <a:gsLst>
              <a:gs pos="0">
                <a:srgbClr val="746f0a"/>
              </a:gs>
              <a:gs pos="50000">
                <a:srgbClr val="faef16"/>
              </a:gs>
              <a:gs pos="100000">
                <a:srgbClr val="746f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nfermed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Degener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356000" y="4481640"/>
            <a:ext cx="2303640" cy="2376360"/>
          </a:xfrm>
          <a:prstGeom prst="ellipse">
            <a:avLst/>
          </a:prstGeom>
          <a:gradFill rotWithShape="0">
            <a:gsLst>
              <a:gs pos="0">
                <a:srgbClr val="746f0a"/>
              </a:gs>
              <a:gs pos="50000">
                <a:srgbClr val="faef16"/>
              </a:gs>
              <a:gs pos="100000">
                <a:srgbClr val="746f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morta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Matern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nfan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6659640" y="4481640"/>
            <a:ext cx="2303280" cy="2376360"/>
          </a:xfrm>
          <a:prstGeom prst="ellipse">
            <a:avLst/>
          </a:prstGeom>
          <a:gradFill rotWithShape="0">
            <a:gsLst>
              <a:gs pos="0">
                <a:srgbClr val="746f0a"/>
              </a:gs>
              <a:gs pos="50000">
                <a:srgbClr val="faef16"/>
              </a:gs>
              <a:gs pos="100000">
                <a:srgbClr val="746f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nfe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(H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3276720" y="260280"/>
            <a:ext cx="574560" cy="3024360"/>
          </a:xfrm>
          <a:custGeom>
            <a:avLst/>
            <a:gdLst>
              <a:gd name="textAreaLeft" fmla="*/ 367200 w 574560"/>
              <a:gd name="textAreaRight" fmla="*/ 574920 w 57456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4"/>
          <p:cNvSpPr/>
          <p:nvPr/>
        </p:nvSpPr>
        <p:spPr>
          <a:xfrm>
            <a:off x="539640" y="115920"/>
            <a:ext cx="822816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ITAMINA C: ACIDO ASCORB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factor de Varias Enzimas de hidrox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empeña un papel fundamental en la cicatrización de heridas por su participación en la síntesis de coláge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ó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tioxidante y además protege a otros antioxidantes (Vit A y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gente Reductor: Reducción de Fe para su absorción intestinal.(Fe+++ a Fe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1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6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a744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CIDO ASCORBICO ó VITAMIN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acido ascorbico"/>
          <p:cNvPicPr/>
          <p:nvPr/>
        </p:nvPicPr>
        <p:blipFill>
          <a:blip r:embed="rId1"/>
          <a:srcRect l="0" t="42828" r="73987" b="3673"/>
          <a:stretch/>
        </p:blipFill>
        <p:spPr>
          <a:xfrm>
            <a:off x="684360" y="1989000"/>
            <a:ext cx="1873080" cy="2519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4"/>
          <p:cNvSpPr/>
          <p:nvPr/>
        </p:nvSpPr>
        <p:spPr>
          <a:xfrm>
            <a:off x="395280" y="4653000"/>
            <a:ext cx="2448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cido Ascórb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3635280" y="1557360"/>
            <a:ext cx="446580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Fuentes de ob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os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miento 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Ki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if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l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hortalizas lindas"/>
          <p:cNvPicPr/>
          <p:nvPr/>
        </p:nvPicPr>
        <p:blipFill>
          <a:blip r:embed="rId2"/>
          <a:stretch/>
        </p:blipFill>
        <p:spPr>
          <a:xfrm>
            <a:off x="5508720" y="328464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6"/>
          <p:cNvSpPr/>
          <p:nvPr/>
        </p:nvSpPr>
        <p:spPr>
          <a:xfrm>
            <a:off x="395280" y="4653000"/>
            <a:ext cx="8137440" cy="1818000"/>
          </a:xfrm>
          <a:prstGeom prst="rect">
            <a:avLst/>
          </a:prstGeom>
          <a:solidFill>
            <a:srgbClr val="fcf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Requerimiento diari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60 mg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mbarazadas 80 y en lactancia 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324000" y="692280"/>
            <a:ext cx="3600360" cy="581400"/>
          </a:xfrm>
          <a:prstGeom prst="rect">
            <a:avLst/>
          </a:prstGeom>
          <a:gradFill rotWithShape="0">
            <a:gsLst>
              <a:gs pos="0">
                <a:srgbClr val="6c7106"/>
              </a:gs>
              <a:gs pos="50000">
                <a:srgbClr val="e9f40e"/>
              </a:gs>
              <a:gs pos="100000">
                <a:srgbClr val="6c71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4067280" y="981000"/>
            <a:ext cx="17287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5869080" y="620640"/>
            <a:ext cx="3024000" cy="58140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SCOR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5761080" y="2349360"/>
            <a:ext cx="3382920" cy="1556280"/>
          </a:xfrm>
          <a:prstGeom prst="rect">
            <a:avLst/>
          </a:prstGeom>
          <a:solidFill>
            <a:srgbClr val="ed8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álculos renales                       Diar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73080" y="2492280"/>
            <a:ext cx="4211640" cy="581400"/>
          </a:xfrm>
          <a:prstGeom prst="rect">
            <a:avLst/>
          </a:prstGeom>
          <a:gradFill rotWithShape="0">
            <a:gsLst>
              <a:gs pos="0">
                <a:srgbClr val="6e401e"/>
              </a:gs>
              <a:gs pos="50000">
                <a:srgbClr val="ed8b41"/>
              </a:gs>
              <a:gs pos="100000">
                <a:srgbClr val="6e401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IPER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3"/>
          <p:cNvSpPr/>
          <p:nvPr/>
        </p:nvSpPr>
        <p:spPr>
          <a:xfrm>
            <a:off x="4500720" y="2781360"/>
            <a:ext cx="1152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3059280" y="3141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&gt;2000 mg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500"/>
                            </p:stCondLst>
                            <p:childTnLst>
                              <p:par>
                                <p:cTn id="1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64720" cy="9367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SUMEN DE LAS VITAMINAS HIDROSOL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0716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encuentran en alimentos de origen Vegetal y Animal a excepción de la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B12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que solo en estos últi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n solubles en agua por lo que se absorben y se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transportan unidos a proteína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o se almacenan en los tejidos por mucho tiempo a excepción de la Vitamina B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excretan por orina ó h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mayoría está formando parte de </a:t>
            </a:r>
            <a:r>
              <a:rPr b="0" lang="es-AR" sz="2800" spc="-1" strike="noStrike">
                <a:solidFill>
                  <a:srgbClr val="ff0000"/>
                </a:solidFill>
                <a:latin typeface="Arial"/>
              </a:rPr>
              <a:t>Coenzima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que actúan en el metabolismo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3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8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3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8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648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VITAMI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443280" y="5805360"/>
            <a:ext cx="2303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BAL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250920" y="2205000"/>
            <a:ext cx="4392360" cy="105984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SCORB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Cambios patológicos y tendencia a hemorragias en dientes y enc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79280" y="836640"/>
            <a:ext cx="5183280" cy="12027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AQUI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Deficiencias en el crecimiento del h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Piernas arqueadas y articulaciones ensanch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108000" y="3376440"/>
            <a:ext cx="4392720" cy="91692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ERI BERI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Deterioro del sistema nervioso y circulatorio, ed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108000" y="4545000"/>
            <a:ext cx="4392720" cy="9741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ELA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Hinchazón lengua, dermatitis, trastornos neurológicos y gastrointestinal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179280" y="5734080"/>
            <a:ext cx="4392720" cy="974160"/>
          </a:xfrm>
          <a:prstGeom prst="rect">
            <a:avLst/>
          </a:prstGeom>
          <a:solidFill>
            <a:srgbClr val="e9f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EMIA MEGALOBLA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Eritrocitos grandes, anómalos e inmad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6804000" y="119700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VITAMINA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4"/>
          <p:cNvSpPr/>
          <p:nvPr/>
        </p:nvSpPr>
        <p:spPr>
          <a:xfrm>
            <a:off x="5651640" y="126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5"/>
          <p:cNvSpPr/>
          <p:nvPr/>
        </p:nvSpPr>
        <p:spPr>
          <a:xfrm flipH="1">
            <a:off x="5940360" y="981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6732720" y="3645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IAMINA (B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6804000" y="2421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VITAMIN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6588000" y="486900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IACINA (B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5435640" y="61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0"/>
          <p:cNvSpPr/>
          <p:nvPr/>
        </p:nvSpPr>
        <p:spPr>
          <a:xfrm flipH="1">
            <a:off x="5724360" y="5877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1"/>
          <p:cNvSpPr/>
          <p:nvPr/>
        </p:nvSpPr>
        <p:spPr>
          <a:xfrm>
            <a:off x="550872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2"/>
          <p:cNvSpPr/>
          <p:nvPr/>
        </p:nvSpPr>
        <p:spPr>
          <a:xfrm flipH="1">
            <a:off x="5796000" y="4869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3"/>
          <p:cNvSpPr/>
          <p:nvPr/>
        </p:nvSpPr>
        <p:spPr>
          <a:xfrm>
            <a:off x="5364000" y="378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4"/>
          <p:cNvSpPr/>
          <p:nvPr/>
        </p:nvSpPr>
        <p:spPr>
          <a:xfrm flipH="1">
            <a:off x="5651280" y="3500280"/>
            <a:ext cx="21564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5"/>
          <p:cNvSpPr/>
          <p:nvPr/>
        </p:nvSpPr>
        <p:spPr>
          <a:xfrm>
            <a:off x="5508720" y="270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6"/>
          <p:cNvSpPr/>
          <p:nvPr/>
        </p:nvSpPr>
        <p:spPr>
          <a:xfrm flipH="1">
            <a:off x="5797440" y="2421000"/>
            <a:ext cx="216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500"/>
                            </p:stCondLst>
                            <p:childTnLst>
                              <p:par>
                                <p:cTn id="1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http://tbn2.google.com/images?q=tbn:NKAWpMOAKhfKkM:http://static.consumer.es/verduras/imgs/fotografias/1conozcamos/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4071960"/>
            <a:ext cx="1714680" cy="21956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http://tbn3.google.com/images?q=tbn:U-crGy6oi5nczM:http://www.alimentacion-sana.com.ar/Portal%2520nuevo/imagenesplanillas/originales2/sesa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4076640"/>
            <a:ext cx="1857600" cy="17431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http://tbn0.google.com/images?q=tbn:faG42C0LHvf3hM:http://usuarios3.arsystel.com/alesales/making-plastic-using-vitamin-c_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3929040"/>
            <a:ext cx="2214360" cy="2313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0" descr="http://tbn0.google.com/images?q=tbn:CcgQhy2MHcUoBM:http://www.granjasdeluruguay.com.uy/materiales/verduras-00.jpg"/>
          <p:cNvPicPr/>
          <p:nvPr/>
        </p:nvPicPr>
        <p:blipFill>
          <a:blip r:embed="rId7"/>
          <a:stretch/>
        </p:blipFill>
        <p:spPr>
          <a:xfrm>
            <a:off x="5940360" y="1484280"/>
            <a:ext cx="2693880" cy="16430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http://tbn0.google.com/images?q=tbn:I4KwKBNfdBz16M:http://www.mygomera.de/fotos/04-09-17_fischer/pescados_800.jpg"/>
          <p:cNvPicPr/>
          <p:nvPr/>
        </p:nvPicPr>
        <p:blipFill>
          <a:blip r:embed="rId8"/>
          <a:stretch/>
        </p:blipFill>
        <p:spPr>
          <a:xfrm>
            <a:off x="3571920" y="1500120"/>
            <a:ext cx="1839960" cy="13762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4" descr="http://tbn2.google.com/images?q=tbn:bHH-147IeshnpM:http://bp2.blogger.com/_EVfrzn4abyg/SIPwI-QeI5I/AAAAAAAAABE/iRWTloSv40U/s400/69.jpg"/>
          <p:cNvPicPr/>
          <p:nvPr/>
        </p:nvPicPr>
        <p:blipFill>
          <a:blip r:embed="rId9"/>
          <a:stretch/>
        </p:blipFill>
        <p:spPr>
          <a:xfrm>
            <a:off x="2643120" y="421488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carne sana"/>
          <p:cNvPicPr/>
          <p:nvPr/>
        </p:nvPicPr>
        <p:blipFill>
          <a:blip r:embed="rId10"/>
          <a:stretch/>
        </p:blipFill>
        <p:spPr>
          <a:xfrm>
            <a:off x="539640" y="1413000"/>
            <a:ext cx="2592360" cy="19540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9"/>
          <p:cNvSpPr/>
          <p:nvPr/>
        </p:nvSpPr>
        <p:spPr>
          <a:xfrm>
            <a:off x="0" y="333360"/>
            <a:ext cx="8820000" cy="9471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LIMENTOS SANOS Y VARIADOS FAVORECEN UN ESTADO DE BUENA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utrición”-Texto y Atlas –Autores: Biesalski.Grimm-  Ed. Panamericana-Año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Química Biológica”- Autor: Antonio blanco- Editorial El Ateneo-Reimpresión 8° edic.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o Esencial en metabolismo y Nutrición”-Cursos Crash de Mosby- Autor: Sarah Benyon-Ed. Harcourt Brace- 1°Ed.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619280" y="189000"/>
            <a:ext cx="6481800" cy="64260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79280" y="981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ASIFICACION DE LOS 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23241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H. DE CARB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PROTE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LIP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00720" y="2349360"/>
            <a:ext cx="431928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VITA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MI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OLIGOELE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4000" y="263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572000" y="25495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Arial"/>
              </a:rPr>
              <a:t>NUTRICION-METABO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"/>
          <p:cNvSpPr/>
          <p:nvPr/>
        </p:nvSpPr>
        <p:spPr>
          <a:xfrm>
            <a:off x="755640" y="1484280"/>
            <a:ext cx="2665440" cy="115092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L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"/>
          <p:cNvSpPr/>
          <p:nvPr/>
        </p:nvSpPr>
        <p:spPr>
          <a:xfrm>
            <a:off x="539640" y="2997360"/>
            <a:ext cx="3024360" cy="108108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UTRIC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6"/>
          <p:cNvSpPr/>
          <p:nvPr/>
        </p:nvSpPr>
        <p:spPr>
          <a:xfrm>
            <a:off x="3492360" y="1676520"/>
            <a:ext cx="1895760" cy="16081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3419640" y="3860640"/>
            <a:ext cx="936360" cy="1081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24000" y="5013360"/>
            <a:ext cx="2952720" cy="947160"/>
          </a:xfrm>
          <a:prstGeom prst="rect">
            <a:avLst/>
          </a:prstGeom>
          <a:solidFill>
            <a:srgbClr val="faef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BIOSINTESIS Y 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270828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643280" y="321300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BSOR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5364000" y="1197000"/>
            <a:ext cx="3672000" cy="187164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ACROMOLECU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780000" y="3933720"/>
            <a:ext cx="3168360" cy="158436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856720" cy="164628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O ORDENAREMOS NUESTRO ESTUDIO PARA ABORDAR LOS CONOCIMIENTOS DE LAS VIAS METABOLICA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250920" y="2565360"/>
            <a:ext cx="2016000" cy="129708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179280" y="4005360"/>
            <a:ext cx="2303640" cy="136836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2484360" y="2492280"/>
            <a:ext cx="1224000" cy="3313080"/>
            <a:chOff x="2484360" y="2492280"/>
            <a:chExt cx="1224000" cy="3313080"/>
          </a:xfrm>
        </p:grpSpPr>
        <p:sp>
          <p:nvSpPr>
            <p:cNvPr id="92" name="AutoShape 6"/>
            <p:cNvSpPr/>
            <p:nvPr/>
          </p:nvSpPr>
          <p:spPr>
            <a:xfrm>
              <a:off x="2484360" y="2492280"/>
              <a:ext cx="1224000" cy="3313080"/>
            </a:xfrm>
            <a:prstGeom prst="leftArrowCallout">
              <a:avLst>
                <a:gd name="adj1" fmla="val 67675"/>
                <a:gd name="adj2" fmla="val 67669"/>
                <a:gd name="adj3" fmla="val 16667"/>
                <a:gd name="adj4" fmla="val 666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3132000" y="2637000"/>
              <a:ext cx="4320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ZIM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4140360" y="1989000"/>
            <a:ext cx="1657080" cy="4392720"/>
            <a:chOff x="4140360" y="1989000"/>
            <a:chExt cx="1657080" cy="4392720"/>
          </a:xfrm>
        </p:grpSpPr>
        <p:grpSp>
          <p:nvGrpSpPr>
            <p:cNvPr id="95" name="Group 9"/>
            <p:cNvGrpSpPr/>
            <p:nvPr/>
          </p:nvGrpSpPr>
          <p:grpSpPr>
            <a:xfrm>
              <a:off x="4140360" y="1989000"/>
              <a:ext cx="1657080" cy="4392720"/>
              <a:chOff x="4140360" y="1989000"/>
              <a:chExt cx="1657080" cy="4392720"/>
            </a:xfrm>
          </p:grpSpPr>
          <p:sp>
            <p:nvSpPr>
              <p:cNvPr id="96" name="AutoShape 10"/>
              <p:cNvSpPr/>
              <p:nvPr/>
            </p:nvSpPr>
            <p:spPr>
              <a:xfrm>
                <a:off x="4140360" y="1989000"/>
                <a:ext cx="1657080" cy="4392720"/>
              </a:xfrm>
              <a:prstGeom prst="leftArrowCallout">
                <a:avLst>
                  <a:gd name="adj1" fmla="val 66278"/>
                  <a:gd name="adj2" fmla="val 66272"/>
                  <a:gd name="adj3" fmla="val 16667"/>
                  <a:gd name="adj4" fmla="val 66673"/>
                </a:avLst>
              </a:prstGeom>
              <a:solidFill>
                <a:srgbClr val="00f6f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1"/>
              <p:cNvSpPr/>
              <p:nvPr/>
            </p:nvSpPr>
            <p:spPr>
              <a:xfrm>
                <a:off x="4932360" y="2133720"/>
                <a:ext cx="576000" cy="3080160"/>
              </a:xfrm>
              <a:prstGeom prst="rect">
                <a:avLst/>
              </a:prstGeom>
              <a:solidFill>
                <a:srgbClr val="00f6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ERG I 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12"/>
            <p:cNvSpPr/>
            <p:nvPr/>
          </p:nvSpPr>
          <p:spPr>
            <a:xfrm>
              <a:off x="4788000" y="5734080"/>
              <a:ext cx="1007640" cy="520560"/>
            </a:xfrm>
            <a:prstGeom prst="rect">
              <a:avLst/>
            </a:prstGeom>
            <a:solidFill>
              <a:srgbClr val="00f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3"/>
          <p:cNvSpPr/>
          <p:nvPr/>
        </p:nvSpPr>
        <p:spPr>
          <a:xfrm>
            <a:off x="6156360" y="3500280"/>
            <a:ext cx="2808360" cy="947160"/>
          </a:xfrm>
          <a:prstGeom prst="rect">
            <a:avLst/>
          </a:prstGeom>
          <a:solidFill>
            <a:srgbClr val="faef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VIAS METABO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10:10:02Z</dcterms:created>
  <dc:creator>Bj</dc:creator>
  <dc:description/>
  <dc:language>en-US</dc:language>
  <cp:lastModifiedBy>Usuario</cp:lastModifiedBy>
  <dcterms:modified xsi:type="dcterms:W3CDTF">2012-08-15T23:06:45Z</dcterms:modified>
  <cp:revision>276</cp:revision>
  <dc:subject/>
  <dc:title>Diapositiva 1</dc:title>
</cp:coreProperties>
</file>